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178D-B864-41C9-B1E8-B6FAE9F38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598D-35C1-4CC3-974B-28E49D831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20C5-2D6C-4CCD-81C1-CB5578E40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0121-EC54-402D-B186-BB04BA0E6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DF0719-FAAE-4AE1-B1FC-F15B4D06F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579891-5186-4CF7-A5D0-A2145798E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FEE024-FF8E-406C-855A-26433C75B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6F8508-84D2-4D60-8E0D-278D992AB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DD0FBF-207D-4F57-819D-C84D37244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EE7163-67EB-4DF0-B7FE-B715B535C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6BB9EA-5AC7-431A-87C5-64E7B5D7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A890-A1CD-4D82-AC0E-EEBD40A77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B2943C-6D52-4D75-819E-D1D42B6D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1B5B9C-C03F-4A33-B267-6A3F479D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881F92-F750-4317-B38C-0613F3195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BBE732-4717-4B91-A30C-DFD1A47A4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50967A-8697-43C9-9FAF-69CCBA43E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C160-A94E-42F2-8543-D2C47A9EE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AAE6-9DA6-47B0-9892-ABCE1811F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B7CC-779B-4FFA-B971-074A95880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C26D-55E3-452B-B2B5-C763F63E5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4B09-B3B4-4253-887E-001A1B13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F499-4AE4-4CD5-819C-45647F8A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C2B4-EFA6-4200-8077-59E6411C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4B022-1964-4CD1-A742-26BC2E6A3E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4F7C1-DEAD-41E9-B9E7-CEFEF1C489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" Target="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slide" Target="slide15.xml"/><Relationship Id="rId4" Type="http://schemas.openxmlformats.org/officeDocument/2006/relationships/slide" Target="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7.xml"/><Relationship Id="rId3" Type="http://schemas.openxmlformats.org/officeDocument/2006/relationships/slide" Target="slide18.xml"/><Relationship Id="rId4" Type="http://schemas.openxmlformats.org/officeDocument/2006/relationships/slide" Target="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6.xm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6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6.xml"/><Relationship Id="rId3" Type="http://schemas.openxmlformats.org/officeDocument/2006/relationships/slide" Target="slide1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t Joseph’s Primary School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eak Hill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03280" y="486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TLL Mid-point Presen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476360" y="1989000"/>
            <a:ext cx="629460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Focus 5: Educative leadershi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Leadership building culture and commun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elebrates key events and achievements as a commun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">
            <a:hlinkClick r:id="rId2" action="ppaction://hlinksldjump"/>
          </p:cNvPr>
          <p:cNvSpPr/>
          <p:nvPr/>
        </p:nvSpPr>
        <p:spPr>
          <a:xfrm>
            <a:off x="826920" y="580536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>
            <a:hlinkClick r:id="rId3" action="ppaction://hlinksldjump"/>
          </p:cNvPr>
          <p:cNvSpPr/>
          <p:nvPr/>
        </p:nvSpPr>
        <p:spPr>
          <a:xfrm>
            <a:off x="1763640" y="580536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>
            <a:hlinkClick r:id="rId4" action="ppaction://hlinksldjump"/>
          </p:cNvPr>
          <p:cNvSpPr/>
          <p:nvPr/>
        </p:nvSpPr>
        <p:spPr>
          <a:xfrm>
            <a:off x="7596360" y="5734080"/>
            <a:ext cx="936360" cy="863640"/>
          </a:xfrm>
          <a:custGeom>
            <a:avLst/>
            <a:gdLst>
              <a:gd name="textAreaLeft" fmla="*/ 55800 w 936360"/>
              <a:gd name="textAreaRight" fmla="*/ 880560 w 93636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3418" h="21600">
                <a:moveTo>
                  <a:pt x="0" y="0"/>
                </a:moveTo>
                <a:lnTo>
                  <a:pt x="23418" y="0"/>
                </a:lnTo>
                <a:lnTo>
                  <a:pt x="23418" y="21600"/>
                </a:lnTo>
                <a:lnTo>
                  <a:pt x="0" y="21600"/>
                </a:lnTo>
                <a:close/>
              </a:path>
              <a:path fill="lightenLess" w="23418" h="21600">
                <a:moveTo>
                  <a:pt x="0" y="0"/>
                </a:moveTo>
                <a:lnTo>
                  <a:pt x="23418" y="0"/>
                </a:lnTo>
                <a:lnTo>
                  <a:pt x="22018" y="1400"/>
                </a:lnTo>
                <a:lnTo>
                  <a:pt x="1400" y="1400"/>
                </a:lnTo>
                <a:close/>
              </a:path>
              <a:path fill="darken" w="23418" h="21600">
                <a:moveTo>
                  <a:pt x="23418" y="0"/>
                </a:moveTo>
                <a:lnTo>
                  <a:pt x="23418" y="21600"/>
                </a:lnTo>
                <a:lnTo>
                  <a:pt x="22018" y="20200"/>
                </a:lnTo>
                <a:lnTo>
                  <a:pt x="22018" y="1400"/>
                </a:lnTo>
                <a:close/>
              </a:path>
              <a:path fill="darkenLess" w="23418" h="21600">
                <a:moveTo>
                  <a:pt x="23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18" y="20200"/>
                </a:lnTo>
                <a:close/>
              </a:path>
              <a:path fill="lighten" w="23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18" h="21600">
                <a:moveTo>
                  <a:pt x="11709" y="3837"/>
                </a:moveTo>
                <a:lnTo>
                  <a:pt x="14285" y="6448"/>
                </a:lnTo>
                <a:lnTo>
                  <a:pt x="14285" y="4707"/>
                </a:lnTo>
                <a:lnTo>
                  <a:pt x="16061" y="4707"/>
                </a:lnTo>
                <a:lnTo>
                  <a:pt x="16061" y="8224"/>
                </a:lnTo>
                <a:lnTo>
                  <a:pt x="18672" y="10800"/>
                </a:lnTo>
                <a:lnTo>
                  <a:pt x="17018" y="10800"/>
                </a:lnTo>
                <a:lnTo>
                  <a:pt x="17018" y="17989"/>
                </a:lnTo>
                <a:lnTo>
                  <a:pt x="6400" y="17989"/>
                </a:lnTo>
                <a:lnTo>
                  <a:pt x="6400" y="10800"/>
                </a:lnTo>
                <a:lnTo>
                  <a:pt x="4746" y="10800"/>
                </a:lnTo>
                <a:close/>
              </a:path>
              <a:path fill="darkenLess" w="23418" h="21600">
                <a:moveTo>
                  <a:pt x="14285" y="6448"/>
                </a:moveTo>
                <a:lnTo>
                  <a:pt x="14285" y="4707"/>
                </a:lnTo>
                <a:lnTo>
                  <a:pt x="16061" y="4707"/>
                </a:lnTo>
                <a:lnTo>
                  <a:pt x="16061" y="8224"/>
                </a:lnTo>
                <a:close/>
              </a:path>
              <a:path fill="darkenLess" w="23418" h="21600">
                <a:moveTo>
                  <a:pt x="10786" y="14299"/>
                </a:moveTo>
                <a:lnTo>
                  <a:pt x="12632" y="14299"/>
                </a:lnTo>
                <a:lnTo>
                  <a:pt x="12632" y="17989"/>
                </a:lnTo>
                <a:lnTo>
                  <a:pt x="17018" y="17989"/>
                </a:lnTo>
                <a:lnTo>
                  <a:pt x="17018" y="10800"/>
                </a:lnTo>
                <a:lnTo>
                  <a:pt x="6400" y="10800"/>
                </a:lnTo>
                <a:lnTo>
                  <a:pt x="6400" y="17989"/>
                </a:lnTo>
                <a:lnTo>
                  <a:pt x="10786" y="17989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940360" y="3860640"/>
            <a:ext cx="936720" cy="2232000"/>
            <a:chOff x="5940360" y="3860640"/>
            <a:chExt cx="936720" cy="2232000"/>
          </a:xfrm>
        </p:grpSpPr>
        <p:grpSp>
          <p:nvGrpSpPr>
            <p:cNvPr id="163" name=""/>
            <p:cNvGrpSpPr/>
            <p:nvPr/>
          </p:nvGrpSpPr>
          <p:grpSpPr>
            <a:xfrm>
              <a:off x="5940360" y="3860640"/>
              <a:ext cx="936720" cy="2232000"/>
              <a:chOff x="5940360" y="3860640"/>
              <a:chExt cx="936720" cy="2232000"/>
            </a:xfrm>
          </p:grpSpPr>
          <p:sp>
            <p:nvSpPr>
              <p:cNvPr id="164" name=""/>
              <p:cNvSpPr/>
              <p:nvPr/>
            </p:nvSpPr>
            <p:spPr>
              <a:xfrm>
                <a:off x="5940360" y="3860640"/>
                <a:ext cx="936720" cy="1728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372000" y="5589360"/>
                <a:ext cx="73080" cy="503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229080" y="4076280"/>
                <a:ext cx="360360" cy="35892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229080" y="4581360"/>
                <a:ext cx="360360" cy="358560"/>
              </a:xfrm>
              <a:prstGeom prst="flowChartConnector">
                <a:avLst/>
              </a:prstGeom>
              <a:solidFill>
                <a:srgbClr val="ff6600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229080" y="5084640"/>
                <a:ext cx="360360" cy="358560"/>
              </a:xfrm>
              <a:prstGeom prst="flowChartConnector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6084720" y="4437000"/>
              <a:ext cx="647640" cy="649440"/>
            </a:xfrm>
            <a:prstGeom prst="irregularSeal1">
              <a:avLst/>
            </a:pr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229440" y="4581360"/>
              <a:ext cx="358560" cy="360360"/>
            </a:xfrm>
            <a:prstGeom prst="ellipse">
              <a:avLst/>
            </a:prstGeom>
            <a:solidFill>
              <a:srgbClr val="ff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Reason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haring school community eve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ttending community eve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clude community members in student learn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">
            <a:hlinkClick r:id="rId2" action="ppaction://hlinksldjump"/>
          </p:cNvPr>
          <p:cNvSpPr/>
          <p:nvPr/>
        </p:nvSpPr>
        <p:spPr>
          <a:xfrm>
            <a:off x="7812000" y="5805360"/>
            <a:ext cx="863640" cy="71928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33" h="21600">
                <a:moveTo>
                  <a:pt x="0" y="0"/>
                </a:moveTo>
                <a:lnTo>
                  <a:pt x="25933" y="0"/>
                </a:lnTo>
                <a:lnTo>
                  <a:pt x="25933" y="21600"/>
                </a:lnTo>
                <a:lnTo>
                  <a:pt x="0" y="21600"/>
                </a:lnTo>
                <a:close/>
              </a:path>
              <a:path fill="lightenLess" w="25933" h="21600">
                <a:moveTo>
                  <a:pt x="0" y="0"/>
                </a:moveTo>
                <a:lnTo>
                  <a:pt x="25933" y="0"/>
                </a:lnTo>
                <a:lnTo>
                  <a:pt x="24533" y="1400"/>
                </a:lnTo>
                <a:lnTo>
                  <a:pt x="1400" y="1400"/>
                </a:lnTo>
                <a:close/>
              </a:path>
              <a:path fill="darken" w="25933" h="21600">
                <a:moveTo>
                  <a:pt x="25933" y="0"/>
                </a:moveTo>
                <a:lnTo>
                  <a:pt x="25933" y="21600"/>
                </a:lnTo>
                <a:lnTo>
                  <a:pt x="24533" y="20200"/>
                </a:lnTo>
                <a:lnTo>
                  <a:pt x="24533" y="1400"/>
                </a:lnTo>
                <a:close/>
              </a:path>
              <a:path fill="darkenLess" w="25933" h="21600">
                <a:moveTo>
                  <a:pt x="25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3" y="20200"/>
                </a:lnTo>
                <a:close/>
              </a:path>
              <a:path fill="lighten" w="25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33" h="21600">
                <a:moveTo>
                  <a:pt x="5960" y="10800"/>
                </a:moveTo>
                <a:lnTo>
                  <a:pt x="19973" y="3794"/>
                </a:lnTo>
                <a:lnTo>
                  <a:pt x="19973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hat have we don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ssist with homewor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vite parents to special ev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nhancing literacy in competit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rent information about NAPL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iteracy and Numeracy information nigh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pen classroom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ttend local community even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">
            <a:hlinkClick r:id="rId2" action="ppaction://hlinksldjump"/>
          </p:cNvPr>
          <p:cNvSpPr/>
          <p:nvPr/>
        </p:nvSpPr>
        <p:spPr>
          <a:xfrm>
            <a:off x="7812000" y="5805360"/>
            <a:ext cx="863640" cy="71928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33" h="21600">
                <a:moveTo>
                  <a:pt x="0" y="0"/>
                </a:moveTo>
                <a:lnTo>
                  <a:pt x="25933" y="0"/>
                </a:lnTo>
                <a:lnTo>
                  <a:pt x="25933" y="21600"/>
                </a:lnTo>
                <a:lnTo>
                  <a:pt x="0" y="21600"/>
                </a:lnTo>
                <a:close/>
              </a:path>
              <a:path fill="lightenLess" w="25933" h="21600">
                <a:moveTo>
                  <a:pt x="0" y="0"/>
                </a:moveTo>
                <a:lnTo>
                  <a:pt x="25933" y="0"/>
                </a:lnTo>
                <a:lnTo>
                  <a:pt x="24533" y="1400"/>
                </a:lnTo>
                <a:lnTo>
                  <a:pt x="1400" y="1400"/>
                </a:lnTo>
                <a:close/>
              </a:path>
              <a:path fill="darken" w="25933" h="21600">
                <a:moveTo>
                  <a:pt x="25933" y="0"/>
                </a:moveTo>
                <a:lnTo>
                  <a:pt x="25933" y="21600"/>
                </a:lnTo>
                <a:lnTo>
                  <a:pt x="24533" y="20200"/>
                </a:lnTo>
                <a:lnTo>
                  <a:pt x="24533" y="1400"/>
                </a:lnTo>
                <a:close/>
              </a:path>
              <a:path fill="darkenLess" w="25933" h="21600">
                <a:moveTo>
                  <a:pt x="25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3" y="20200"/>
                </a:lnTo>
                <a:close/>
              </a:path>
              <a:path fill="lighten" w="25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33" h="21600">
                <a:moveTo>
                  <a:pt x="5960" y="10800"/>
                </a:moveTo>
                <a:lnTo>
                  <a:pt x="19973" y="3794"/>
                </a:lnTo>
                <a:lnTo>
                  <a:pt x="19973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ocus1: The transformed learn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nowledge in different disciplin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d able to make connectio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mong the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ritical and creative thinkers and problem solv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mmitted to ongoing spiritual grow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">
            <a:hlinkClick r:id="rId2" action="ppaction://hlinksldjump"/>
          </p:cNvPr>
          <p:cNvSpPr/>
          <p:nvPr/>
        </p:nvSpPr>
        <p:spPr>
          <a:xfrm>
            <a:off x="684360" y="5734080"/>
            <a:ext cx="718920" cy="64764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76" h="21600">
                <a:moveTo>
                  <a:pt x="0" y="0"/>
                </a:moveTo>
                <a:lnTo>
                  <a:pt x="23976" y="0"/>
                </a:lnTo>
                <a:lnTo>
                  <a:pt x="23976" y="21600"/>
                </a:lnTo>
                <a:lnTo>
                  <a:pt x="0" y="21600"/>
                </a:lnTo>
                <a:close/>
              </a:path>
              <a:path fill="lightenLess" w="23976" h="21600">
                <a:moveTo>
                  <a:pt x="0" y="0"/>
                </a:moveTo>
                <a:lnTo>
                  <a:pt x="23976" y="0"/>
                </a:lnTo>
                <a:lnTo>
                  <a:pt x="22576" y="1400"/>
                </a:lnTo>
                <a:lnTo>
                  <a:pt x="1400" y="1400"/>
                </a:lnTo>
                <a:close/>
              </a:path>
              <a:path fill="darken" w="23976" h="21600">
                <a:moveTo>
                  <a:pt x="23976" y="0"/>
                </a:moveTo>
                <a:lnTo>
                  <a:pt x="23976" y="21600"/>
                </a:lnTo>
                <a:lnTo>
                  <a:pt x="22576" y="20200"/>
                </a:lnTo>
                <a:lnTo>
                  <a:pt x="22576" y="1400"/>
                </a:lnTo>
                <a:close/>
              </a:path>
              <a:path fill="darkenLess" w="23976" h="21600">
                <a:moveTo>
                  <a:pt x="23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76" y="20200"/>
                </a:lnTo>
                <a:close/>
              </a:path>
              <a:path fill="lighten" w="23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>
            <a:hlinkClick r:id="rId3" action="ppaction://hlinksldjump"/>
          </p:cNvPr>
          <p:cNvSpPr/>
          <p:nvPr/>
        </p:nvSpPr>
        <p:spPr>
          <a:xfrm>
            <a:off x="1619280" y="5734080"/>
            <a:ext cx="719280" cy="647640"/>
          </a:xfrm>
          <a:custGeom>
            <a:avLst/>
            <a:gdLst>
              <a:gd name="textAreaLeft" fmla="*/ 41760 w 719280"/>
              <a:gd name="textAreaRight" fmla="*/ 677520 w 719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88" h="21600">
                <a:moveTo>
                  <a:pt x="0" y="0"/>
                </a:moveTo>
                <a:lnTo>
                  <a:pt x="23988" y="0"/>
                </a:lnTo>
                <a:lnTo>
                  <a:pt x="23988" y="21600"/>
                </a:lnTo>
                <a:lnTo>
                  <a:pt x="0" y="21600"/>
                </a:lnTo>
                <a:close/>
              </a:path>
              <a:path fill="lightenLess" w="23988" h="21600">
                <a:moveTo>
                  <a:pt x="0" y="0"/>
                </a:moveTo>
                <a:lnTo>
                  <a:pt x="23988" y="0"/>
                </a:lnTo>
                <a:lnTo>
                  <a:pt x="22588" y="1400"/>
                </a:lnTo>
                <a:lnTo>
                  <a:pt x="1400" y="1400"/>
                </a:lnTo>
                <a:close/>
              </a:path>
              <a:path fill="darken" w="23988" h="21600">
                <a:moveTo>
                  <a:pt x="23988" y="0"/>
                </a:moveTo>
                <a:lnTo>
                  <a:pt x="23988" y="21600"/>
                </a:lnTo>
                <a:lnTo>
                  <a:pt x="22588" y="20200"/>
                </a:lnTo>
                <a:lnTo>
                  <a:pt x="22588" y="1400"/>
                </a:lnTo>
                <a:close/>
              </a:path>
              <a:path fill="darkenLess" w="23988" h="21600">
                <a:moveTo>
                  <a:pt x="23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88" y="20200"/>
                </a:lnTo>
                <a:close/>
              </a:path>
              <a:path fill="lighten" w="23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>
            <a:hlinkClick r:id="rId4" action="ppaction://hlinksldjump"/>
          </p:cNvPr>
          <p:cNvSpPr/>
          <p:nvPr/>
        </p:nvSpPr>
        <p:spPr>
          <a:xfrm>
            <a:off x="7885080" y="5661000"/>
            <a:ext cx="1008000" cy="792360"/>
          </a:xfrm>
          <a:custGeom>
            <a:avLst/>
            <a:gdLst>
              <a:gd name="textAreaLeft" fmla="*/ 51120 w 1008000"/>
              <a:gd name="textAreaRight" fmla="*/ 956880 w 100800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7476" h="21600">
                <a:moveTo>
                  <a:pt x="0" y="0"/>
                </a:moveTo>
                <a:lnTo>
                  <a:pt x="27476" y="0"/>
                </a:lnTo>
                <a:lnTo>
                  <a:pt x="27476" y="21600"/>
                </a:lnTo>
                <a:lnTo>
                  <a:pt x="0" y="21600"/>
                </a:lnTo>
                <a:close/>
              </a:path>
              <a:path fill="lightenLess" w="27476" h="21600">
                <a:moveTo>
                  <a:pt x="0" y="0"/>
                </a:moveTo>
                <a:lnTo>
                  <a:pt x="27476" y="0"/>
                </a:lnTo>
                <a:lnTo>
                  <a:pt x="26076" y="1400"/>
                </a:lnTo>
                <a:lnTo>
                  <a:pt x="1400" y="1400"/>
                </a:lnTo>
                <a:close/>
              </a:path>
              <a:path fill="darken" w="27476" h="21600">
                <a:moveTo>
                  <a:pt x="27476" y="0"/>
                </a:moveTo>
                <a:lnTo>
                  <a:pt x="27476" y="21600"/>
                </a:lnTo>
                <a:lnTo>
                  <a:pt x="26076" y="20200"/>
                </a:lnTo>
                <a:lnTo>
                  <a:pt x="26076" y="1400"/>
                </a:lnTo>
                <a:close/>
              </a:path>
              <a:path fill="darkenLess" w="27476" h="21600">
                <a:moveTo>
                  <a:pt x="274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76" y="20200"/>
                </a:lnTo>
                <a:close/>
              </a:path>
              <a:path fill="lighten" w="274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76" h="21600">
                <a:moveTo>
                  <a:pt x="13738" y="3837"/>
                </a:moveTo>
                <a:lnTo>
                  <a:pt x="16314" y="6448"/>
                </a:lnTo>
                <a:lnTo>
                  <a:pt x="16314" y="4707"/>
                </a:lnTo>
                <a:lnTo>
                  <a:pt x="18090" y="4707"/>
                </a:lnTo>
                <a:lnTo>
                  <a:pt x="18090" y="8224"/>
                </a:lnTo>
                <a:lnTo>
                  <a:pt x="20701" y="10800"/>
                </a:lnTo>
                <a:lnTo>
                  <a:pt x="19047" y="10800"/>
                </a:lnTo>
                <a:lnTo>
                  <a:pt x="19047" y="17989"/>
                </a:lnTo>
                <a:lnTo>
                  <a:pt x="8429" y="17989"/>
                </a:lnTo>
                <a:lnTo>
                  <a:pt x="8429" y="10800"/>
                </a:lnTo>
                <a:lnTo>
                  <a:pt x="6775" y="10800"/>
                </a:lnTo>
                <a:close/>
              </a:path>
              <a:path fill="darkenLess" w="27476" h="21600">
                <a:moveTo>
                  <a:pt x="16314" y="6448"/>
                </a:moveTo>
                <a:lnTo>
                  <a:pt x="16314" y="4707"/>
                </a:lnTo>
                <a:lnTo>
                  <a:pt x="18090" y="4707"/>
                </a:lnTo>
                <a:lnTo>
                  <a:pt x="18090" y="8224"/>
                </a:lnTo>
                <a:close/>
              </a:path>
              <a:path fill="darkenLess" w="27476" h="21600">
                <a:moveTo>
                  <a:pt x="12815" y="14299"/>
                </a:moveTo>
                <a:lnTo>
                  <a:pt x="14660" y="14299"/>
                </a:lnTo>
                <a:lnTo>
                  <a:pt x="14660" y="17989"/>
                </a:lnTo>
                <a:lnTo>
                  <a:pt x="19047" y="17989"/>
                </a:lnTo>
                <a:lnTo>
                  <a:pt x="19047" y="10800"/>
                </a:lnTo>
                <a:lnTo>
                  <a:pt x="8429" y="10800"/>
                </a:lnTo>
                <a:lnTo>
                  <a:pt x="8429" y="17989"/>
                </a:lnTo>
                <a:lnTo>
                  <a:pt x="12815" y="17989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7885080" y="2060640"/>
            <a:ext cx="936720" cy="2232000"/>
            <a:chOff x="7885080" y="2060640"/>
            <a:chExt cx="936720" cy="2232000"/>
          </a:xfrm>
        </p:grpSpPr>
        <p:grpSp>
          <p:nvGrpSpPr>
            <p:cNvPr id="183" name=""/>
            <p:cNvGrpSpPr/>
            <p:nvPr/>
          </p:nvGrpSpPr>
          <p:grpSpPr>
            <a:xfrm>
              <a:off x="7885080" y="2060640"/>
              <a:ext cx="936720" cy="2232000"/>
              <a:chOff x="7885080" y="2060640"/>
              <a:chExt cx="936720" cy="2232000"/>
            </a:xfrm>
          </p:grpSpPr>
          <p:sp>
            <p:nvSpPr>
              <p:cNvPr id="184" name=""/>
              <p:cNvSpPr/>
              <p:nvPr/>
            </p:nvSpPr>
            <p:spPr>
              <a:xfrm>
                <a:off x="7885080" y="2060640"/>
                <a:ext cx="936720" cy="1728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8316720" y="3789360"/>
                <a:ext cx="73080" cy="503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173800" y="2276280"/>
                <a:ext cx="360360" cy="35892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173800" y="2781360"/>
                <a:ext cx="360360" cy="358560"/>
              </a:xfrm>
              <a:prstGeom prst="flowChartConnector">
                <a:avLst/>
              </a:prstGeom>
              <a:solidFill>
                <a:srgbClr val="ff6600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173800" y="3284640"/>
                <a:ext cx="360360" cy="358560"/>
              </a:xfrm>
              <a:prstGeom prst="flowChartConnector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8029440" y="2637000"/>
              <a:ext cx="647640" cy="649440"/>
            </a:xfrm>
            <a:prstGeom prst="irregularSeal1">
              <a:avLst/>
            </a:pr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174160" y="2781360"/>
              <a:ext cx="358560" cy="360360"/>
            </a:xfrm>
            <a:prstGeom prst="ellipse">
              <a:avLst/>
            </a:prstGeom>
            <a:solidFill>
              <a:srgbClr val="ff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Reason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velop critical think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ncourage children to be inquisitive by using technolog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velop stronger links between the school and paris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">
            <a:hlinkClick r:id="rId2" action="ppaction://hlinksldjump"/>
          </p:cNvPr>
          <p:cNvSpPr/>
          <p:nvPr/>
        </p:nvSpPr>
        <p:spPr>
          <a:xfrm>
            <a:off x="7956720" y="5734080"/>
            <a:ext cx="936360" cy="863640"/>
          </a:xfrm>
          <a:custGeom>
            <a:avLst/>
            <a:gdLst>
              <a:gd name="textAreaLeft" fmla="*/ 55800 w 936360"/>
              <a:gd name="textAreaRight" fmla="*/ 880560 w 93636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3418" h="21600">
                <a:moveTo>
                  <a:pt x="0" y="0"/>
                </a:moveTo>
                <a:lnTo>
                  <a:pt x="23418" y="0"/>
                </a:lnTo>
                <a:lnTo>
                  <a:pt x="23418" y="21600"/>
                </a:lnTo>
                <a:lnTo>
                  <a:pt x="0" y="21600"/>
                </a:lnTo>
                <a:close/>
              </a:path>
              <a:path fill="lightenLess" w="23418" h="21600">
                <a:moveTo>
                  <a:pt x="0" y="0"/>
                </a:moveTo>
                <a:lnTo>
                  <a:pt x="23418" y="0"/>
                </a:lnTo>
                <a:lnTo>
                  <a:pt x="22018" y="1400"/>
                </a:lnTo>
                <a:lnTo>
                  <a:pt x="1400" y="1400"/>
                </a:lnTo>
                <a:close/>
              </a:path>
              <a:path fill="darken" w="23418" h="21600">
                <a:moveTo>
                  <a:pt x="23418" y="0"/>
                </a:moveTo>
                <a:lnTo>
                  <a:pt x="23418" y="21600"/>
                </a:lnTo>
                <a:lnTo>
                  <a:pt x="22018" y="20200"/>
                </a:lnTo>
                <a:lnTo>
                  <a:pt x="22018" y="1400"/>
                </a:lnTo>
                <a:close/>
              </a:path>
              <a:path fill="darkenLess" w="23418" h="21600">
                <a:moveTo>
                  <a:pt x="23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18" y="20200"/>
                </a:lnTo>
                <a:close/>
              </a:path>
              <a:path fill="lighten" w="23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18" h="21600">
                <a:moveTo>
                  <a:pt x="4703" y="10800"/>
                </a:moveTo>
                <a:lnTo>
                  <a:pt x="18715" y="3794"/>
                </a:lnTo>
                <a:lnTo>
                  <a:pt x="1871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hat have we don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CT Teacher to develop children’s computer skil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irculating the school newslet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amily, class and school mass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clude parishioners in school events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">
            <a:hlinkClick r:id="rId2" action="ppaction://hlinksldjump"/>
          </p:cNvPr>
          <p:cNvSpPr/>
          <p:nvPr/>
        </p:nvSpPr>
        <p:spPr>
          <a:xfrm>
            <a:off x="7956720" y="5734080"/>
            <a:ext cx="936360" cy="863640"/>
          </a:xfrm>
          <a:custGeom>
            <a:avLst/>
            <a:gdLst>
              <a:gd name="textAreaLeft" fmla="*/ 55800 w 936360"/>
              <a:gd name="textAreaRight" fmla="*/ 880560 w 93636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3418" h="21600">
                <a:moveTo>
                  <a:pt x="0" y="0"/>
                </a:moveTo>
                <a:lnTo>
                  <a:pt x="23418" y="0"/>
                </a:lnTo>
                <a:lnTo>
                  <a:pt x="23418" y="21600"/>
                </a:lnTo>
                <a:lnTo>
                  <a:pt x="0" y="21600"/>
                </a:lnTo>
                <a:close/>
              </a:path>
              <a:path fill="lightenLess" w="23418" h="21600">
                <a:moveTo>
                  <a:pt x="0" y="0"/>
                </a:moveTo>
                <a:lnTo>
                  <a:pt x="23418" y="0"/>
                </a:lnTo>
                <a:lnTo>
                  <a:pt x="22018" y="1400"/>
                </a:lnTo>
                <a:lnTo>
                  <a:pt x="1400" y="1400"/>
                </a:lnTo>
                <a:close/>
              </a:path>
              <a:path fill="darken" w="23418" h="21600">
                <a:moveTo>
                  <a:pt x="23418" y="0"/>
                </a:moveTo>
                <a:lnTo>
                  <a:pt x="23418" y="21600"/>
                </a:lnTo>
                <a:lnTo>
                  <a:pt x="22018" y="20200"/>
                </a:lnTo>
                <a:lnTo>
                  <a:pt x="22018" y="1400"/>
                </a:lnTo>
                <a:close/>
              </a:path>
              <a:path fill="darkenLess" w="23418" h="21600">
                <a:moveTo>
                  <a:pt x="23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18" y="20200"/>
                </a:lnTo>
                <a:close/>
              </a:path>
              <a:path fill="lighten" w="23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18" h="21600">
                <a:moveTo>
                  <a:pt x="4703" y="10800"/>
                </a:moveTo>
                <a:lnTo>
                  <a:pt x="18715" y="3794"/>
                </a:lnTo>
                <a:lnTo>
                  <a:pt x="1871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Focus 6: Authentic Learn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Organising for lear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ses technology to support teach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d learn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llocates resources with a priorit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 learn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">
            <a:hlinkClick r:id="rId2" action="ppaction://hlinksldjump"/>
          </p:cNvPr>
          <p:cNvSpPr/>
          <p:nvPr/>
        </p:nvSpPr>
        <p:spPr>
          <a:xfrm>
            <a:off x="755640" y="5805360"/>
            <a:ext cx="720720" cy="64800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4023" h="21600">
                <a:moveTo>
                  <a:pt x="0" y="0"/>
                </a:moveTo>
                <a:lnTo>
                  <a:pt x="24023" y="0"/>
                </a:lnTo>
                <a:lnTo>
                  <a:pt x="24023" y="21600"/>
                </a:lnTo>
                <a:lnTo>
                  <a:pt x="0" y="21600"/>
                </a:lnTo>
                <a:close/>
              </a:path>
              <a:path fill="lightenLess" w="24023" h="21600">
                <a:moveTo>
                  <a:pt x="0" y="0"/>
                </a:moveTo>
                <a:lnTo>
                  <a:pt x="24023" y="0"/>
                </a:lnTo>
                <a:lnTo>
                  <a:pt x="22623" y="1400"/>
                </a:lnTo>
                <a:lnTo>
                  <a:pt x="1400" y="1400"/>
                </a:lnTo>
                <a:close/>
              </a:path>
              <a:path fill="darken" w="24023" h="21600">
                <a:moveTo>
                  <a:pt x="24023" y="0"/>
                </a:moveTo>
                <a:lnTo>
                  <a:pt x="24023" y="21600"/>
                </a:lnTo>
                <a:lnTo>
                  <a:pt x="22623" y="20200"/>
                </a:lnTo>
                <a:lnTo>
                  <a:pt x="22623" y="1400"/>
                </a:lnTo>
                <a:close/>
              </a:path>
              <a:path fill="darkenLess" w="24023" h="21600">
                <a:moveTo>
                  <a:pt x="240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23" y="20200"/>
                </a:lnTo>
                <a:close/>
              </a:path>
              <a:path fill="lighten" w="240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>
            <a:hlinkClick r:id="rId3" action="ppaction://hlinksldjump"/>
          </p:cNvPr>
          <p:cNvSpPr/>
          <p:nvPr/>
        </p:nvSpPr>
        <p:spPr>
          <a:xfrm>
            <a:off x="1692360" y="5805360"/>
            <a:ext cx="720720" cy="64800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4023" h="21600">
                <a:moveTo>
                  <a:pt x="0" y="0"/>
                </a:moveTo>
                <a:lnTo>
                  <a:pt x="24023" y="0"/>
                </a:lnTo>
                <a:lnTo>
                  <a:pt x="24023" y="21600"/>
                </a:lnTo>
                <a:lnTo>
                  <a:pt x="0" y="21600"/>
                </a:lnTo>
                <a:close/>
              </a:path>
              <a:path fill="lightenLess" w="24023" h="21600">
                <a:moveTo>
                  <a:pt x="0" y="0"/>
                </a:moveTo>
                <a:lnTo>
                  <a:pt x="24023" y="0"/>
                </a:lnTo>
                <a:lnTo>
                  <a:pt x="22623" y="1400"/>
                </a:lnTo>
                <a:lnTo>
                  <a:pt x="1400" y="1400"/>
                </a:lnTo>
                <a:close/>
              </a:path>
              <a:path fill="darken" w="24023" h="21600">
                <a:moveTo>
                  <a:pt x="24023" y="0"/>
                </a:moveTo>
                <a:lnTo>
                  <a:pt x="24023" y="21600"/>
                </a:lnTo>
                <a:lnTo>
                  <a:pt x="22623" y="20200"/>
                </a:lnTo>
                <a:lnTo>
                  <a:pt x="22623" y="1400"/>
                </a:lnTo>
                <a:close/>
              </a:path>
              <a:path fill="darkenLess" w="24023" h="21600">
                <a:moveTo>
                  <a:pt x="240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23" y="20200"/>
                </a:lnTo>
                <a:close/>
              </a:path>
              <a:path fill="lighten" w="240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>
            <a:hlinkClick r:id="rId4" action="ppaction://hlinksldjump"/>
          </p:cNvPr>
          <p:cNvSpPr/>
          <p:nvPr/>
        </p:nvSpPr>
        <p:spPr>
          <a:xfrm>
            <a:off x="8028000" y="5516640"/>
            <a:ext cx="865080" cy="936720"/>
          </a:xfrm>
          <a:custGeom>
            <a:avLst/>
            <a:gdLst>
              <a:gd name="textAreaLeft" fmla="*/ 55800 w 865080"/>
              <a:gd name="textAreaRight" fmla="*/ 809280 w 865080"/>
              <a:gd name="textAreaTop" fmla="*/ 55800 h 936720"/>
              <a:gd name="textAreaBottom" fmla="*/ 880920 h 936720"/>
            </a:gdLst>
            <a:ahLst/>
            <a:rect l="textAreaLeft" t="textAreaTop" r="textAreaRight" b="textAreaBottom"/>
            <a:pathLst>
              <a:path w="21600" h="23388">
                <a:moveTo>
                  <a:pt x="0" y="0"/>
                </a:moveTo>
                <a:lnTo>
                  <a:pt x="21600" y="0"/>
                </a:lnTo>
                <a:lnTo>
                  <a:pt x="21600" y="23388"/>
                </a:lnTo>
                <a:lnTo>
                  <a:pt x="0" y="23388"/>
                </a:lnTo>
                <a:close/>
              </a:path>
              <a:path fill="lightenLess" w="21600" h="233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88">
                <a:moveTo>
                  <a:pt x="21600" y="0"/>
                </a:moveTo>
                <a:lnTo>
                  <a:pt x="21600" y="23388"/>
                </a:lnTo>
                <a:lnTo>
                  <a:pt x="20200" y="21988"/>
                </a:lnTo>
                <a:lnTo>
                  <a:pt x="20200" y="1400"/>
                </a:lnTo>
                <a:close/>
              </a:path>
              <a:path fill="darkenLess" w="21600" h="23388">
                <a:moveTo>
                  <a:pt x="21600" y="23388"/>
                </a:moveTo>
                <a:lnTo>
                  <a:pt x="0" y="23388"/>
                </a:lnTo>
                <a:lnTo>
                  <a:pt x="1400" y="21988"/>
                </a:lnTo>
                <a:lnTo>
                  <a:pt x="20200" y="21988"/>
                </a:lnTo>
                <a:close/>
              </a:path>
              <a:path fill="lighten" w="21600" h="23388">
                <a:moveTo>
                  <a:pt x="0" y="233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88"/>
                </a:lnTo>
                <a:close/>
              </a:path>
              <a:path fill="darken" w="21600" h="23388">
                <a:moveTo>
                  <a:pt x="10800" y="4731"/>
                </a:moveTo>
                <a:lnTo>
                  <a:pt x="13376" y="7342"/>
                </a:lnTo>
                <a:lnTo>
                  <a:pt x="13376" y="5601"/>
                </a:lnTo>
                <a:lnTo>
                  <a:pt x="15152" y="5601"/>
                </a:lnTo>
                <a:lnTo>
                  <a:pt x="15152" y="9118"/>
                </a:lnTo>
                <a:lnTo>
                  <a:pt x="17763" y="11694"/>
                </a:lnTo>
                <a:lnTo>
                  <a:pt x="16109" y="11694"/>
                </a:lnTo>
                <a:lnTo>
                  <a:pt x="16109" y="18883"/>
                </a:lnTo>
                <a:lnTo>
                  <a:pt x="5491" y="18883"/>
                </a:lnTo>
                <a:lnTo>
                  <a:pt x="5491" y="11694"/>
                </a:lnTo>
                <a:lnTo>
                  <a:pt x="3837" y="11694"/>
                </a:lnTo>
                <a:close/>
              </a:path>
              <a:path fill="darkenLess" w="21600" h="23388">
                <a:moveTo>
                  <a:pt x="13376" y="7342"/>
                </a:moveTo>
                <a:lnTo>
                  <a:pt x="13376" y="5601"/>
                </a:lnTo>
                <a:lnTo>
                  <a:pt x="15152" y="5601"/>
                </a:lnTo>
                <a:lnTo>
                  <a:pt x="15152" y="9118"/>
                </a:lnTo>
                <a:close/>
              </a:path>
              <a:path fill="darkenLess" w="21600" h="23388">
                <a:moveTo>
                  <a:pt x="9877" y="15193"/>
                </a:moveTo>
                <a:lnTo>
                  <a:pt x="11723" y="15193"/>
                </a:lnTo>
                <a:lnTo>
                  <a:pt x="11723" y="18883"/>
                </a:lnTo>
                <a:lnTo>
                  <a:pt x="16109" y="18883"/>
                </a:lnTo>
                <a:lnTo>
                  <a:pt x="16109" y="11694"/>
                </a:lnTo>
                <a:lnTo>
                  <a:pt x="5491" y="11694"/>
                </a:lnTo>
                <a:lnTo>
                  <a:pt x="5491" y="18883"/>
                </a:lnTo>
                <a:lnTo>
                  <a:pt x="9877" y="1888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7956720" y="1989000"/>
            <a:ext cx="936360" cy="2232000"/>
            <a:chOff x="7956720" y="1989000"/>
            <a:chExt cx="936360" cy="2232000"/>
          </a:xfrm>
        </p:grpSpPr>
        <p:grpSp>
          <p:nvGrpSpPr>
            <p:cNvPr id="203" name=""/>
            <p:cNvGrpSpPr/>
            <p:nvPr/>
          </p:nvGrpSpPr>
          <p:grpSpPr>
            <a:xfrm>
              <a:off x="7956720" y="1989000"/>
              <a:ext cx="936360" cy="2232000"/>
              <a:chOff x="7956720" y="1989000"/>
              <a:chExt cx="936360" cy="2232000"/>
            </a:xfrm>
          </p:grpSpPr>
          <p:sp>
            <p:nvSpPr>
              <p:cNvPr id="204" name=""/>
              <p:cNvSpPr/>
              <p:nvPr/>
            </p:nvSpPr>
            <p:spPr>
              <a:xfrm>
                <a:off x="7956720" y="1989000"/>
                <a:ext cx="936360" cy="1728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8388000" y="3717720"/>
                <a:ext cx="72720" cy="503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8245080" y="2204640"/>
                <a:ext cx="360000" cy="35892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245080" y="2709720"/>
                <a:ext cx="360000" cy="358560"/>
              </a:xfrm>
              <a:prstGeom prst="flowChartConnector">
                <a:avLst/>
              </a:prstGeom>
              <a:solidFill>
                <a:srgbClr val="ff6600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245080" y="3213000"/>
                <a:ext cx="360000" cy="358560"/>
              </a:xfrm>
              <a:prstGeom prst="flowChartConnector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8100720" y="2565360"/>
              <a:ext cx="647280" cy="649440"/>
            </a:xfrm>
            <a:prstGeom prst="irregularSeal1">
              <a:avLst/>
            </a:pr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245440" y="2709720"/>
              <a:ext cx="358200" cy="360360"/>
            </a:xfrm>
            <a:prstGeom prst="ellipse">
              <a:avLst/>
            </a:prstGeom>
            <a:solidFill>
              <a:srgbClr val="ff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Reason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T professional learn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udit resourc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atalogue school resourc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iteracy and numeracy resourc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">
            <a:hlinkClick r:id="rId2" action="ppaction://hlinksldjump"/>
          </p:cNvPr>
          <p:cNvSpPr/>
          <p:nvPr/>
        </p:nvSpPr>
        <p:spPr>
          <a:xfrm>
            <a:off x="7956720" y="6021360"/>
            <a:ext cx="792000" cy="6476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12" h="21600">
                <a:moveTo>
                  <a:pt x="0" y="0"/>
                </a:moveTo>
                <a:lnTo>
                  <a:pt x="26412" y="0"/>
                </a:lnTo>
                <a:lnTo>
                  <a:pt x="26412" y="21600"/>
                </a:lnTo>
                <a:lnTo>
                  <a:pt x="0" y="21600"/>
                </a:lnTo>
                <a:close/>
              </a:path>
              <a:path fill="lightenLess" w="26412" h="21600">
                <a:moveTo>
                  <a:pt x="0" y="0"/>
                </a:moveTo>
                <a:lnTo>
                  <a:pt x="26412" y="0"/>
                </a:lnTo>
                <a:lnTo>
                  <a:pt x="25012" y="1400"/>
                </a:lnTo>
                <a:lnTo>
                  <a:pt x="1400" y="1400"/>
                </a:lnTo>
                <a:close/>
              </a:path>
              <a:path fill="darken" w="26412" h="21600">
                <a:moveTo>
                  <a:pt x="26412" y="0"/>
                </a:moveTo>
                <a:lnTo>
                  <a:pt x="26412" y="21600"/>
                </a:lnTo>
                <a:lnTo>
                  <a:pt x="25012" y="20200"/>
                </a:lnTo>
                <a:lnTo>
                  <a:pt x="25012" y="1400"/>
                </a:lnTo>
                <a:close/>
              </a:path>
              <a:path fill="darkenLess" w="26412" h="21600">
                <a:moveTo>
                  <a:pt x="26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12" y="20200"/>
                </a:lnTo>
                <a:close/>
              </a:path>
              <a:path fill="lighten" w="26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12" h="21600">
                <a:moveTo>
                  <a:pt x="6200" y="10800"/>
                </a:moveTo>
                <a:lnTo>
                  <a:pt x="20212" y="3794"/>
                </a:lnTo>
                <a:lnTo>
                  <a:pt x="20212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hat have we don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T to audit reading resourc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CTT to devise IT action pla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CTT to conduct IT less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hildren’s interests in reading surve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ibrary barcode system to catalogue resourc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ow SES fund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">
            <a:hlinkClick r:id="rId2" action="ppaction://hlinksldjump"/>
          </p:cNvPr>
          <p:cNvSpPr/>
          <p:nvPr/>
        </p:nvSpPr>
        <p:spPr>
          <a:xfrm>
            <a:off x="7956720" y="6021360"/>
            <a:ext cx="792000" cy="6476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12" h="21600">
                <a:moveTo>
                  <a:pt x="0" y="0"/>
                </a:moveTo>
                <a:lnTo>
                  <a:pt x="26412" y="0"/>
                </a:lnTo>
                <a:lnTo>
                  <a:pt x="26412" y="21600"/>
                </a:lnTo>
                <a:lnTo>
                  <a:pt x="0" y="21600"/>
                </a:lnTo>
                <a:close/>
              </a:path>
              <a:path fill="lightenLess" w="26412" h="21600">
                <a:moveTo>
                  <a:pt x="0" y="0"/>
                </a:moveTo>
                <a:lnTo>
                  <a:pt x="26412" y="0"/>
                </a:lnTo>
                <a:lnTo>
                  <a:pt x="25012" y="1400"/>
                </a:lnTo>
                <a:lnTo>
                  <a:pt x="1400" y="1400"/>
                </a:lnTo>
                <a:close/>
              </a:path>
              <a:path fill="darken" w="26412" h="21600">
                <a:moveTo>
                  <a:pt x="26412" y="0"/>
                </a:moveTo>
                <a:lnTo>
                  <a:pt x="26412" y="21600"/>
                </a:lnTo>
                <a:lnTo>
                  <a:pt x="25012" y="20200"/>
                </a:lnTo>
                <a:lnTo>
                  <a:pt x="25012" y="1400"/>
                </a:lnTo>
                <a:close/>
              </a:path>
              <a:path fill="darkenLess" w="26412" h="21600">
                <a:moveTo>
                  <a:pt x="26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12" y="20200"/>
                </a:lnTo>
                <a:close/>
              </a:path>
              <a:path fill="lighten" w="26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12" h="21600">
                <a:moveTo>
                  <a:pt x="6200" y="10800"/>
                </a:moveTo>
                <a:lnTo>
                  <a:pt x="20212" y="3794"/>
                </a:lnTo>
                <a:lnTo>
                  <a:pt x="20212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How successful have we been at the LTLL proces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e have begun to implement our action plans for each focu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rue  success will come over a period of ti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aised staff awareness about a whole school approach to learn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7956720" y="5734080"/>
            <a:ext cx="863280" cy="790560"/>
          </a:xfrm>
          <a:custGeom>
            <a:avLst/>
            <a:gdLst>
              <a:gd name="textAreaLeft" fmla="*/ 51120 w 863280"/>
              <a:gd name="textAreaRight" fmla="*/ 812160 w 863280"/>
              <a:gd name="textAreaTop" fmla="*/ 51120 h 790560"/>
              <a:gd name="textAreaBottom" fmla="*/ 739440 h 790560"/>
            </a:gdLst>
            <a:ahLst/>
            <a:rect l="textAreaLeft" t="textAreaTop" r="textAreaRight" b="textAreaBottom"/>
            <a:pathLst>
              <a:path w="23586" h="21600">
                <a:moveTo>
                  <a:pt x="0" y="0"/>
                </a:moveTo>
                <a:lnTo>
                  <a:pt x="23586" y="0"/>
                </a:lnTo>
                <a:lnTo>
                  <a:pt x="23586" y="21600"/>
                </a:lnTo>
                <a:lnTo>
                  <a:pt x="0" y="21600"/>
                </a:lnTo>
                <a:close/>
              </a:path>
              <a:path fill="lightenLess" w="23586" h="21600">
                <a:moveTo>
                  <a:pt x="0" y="0"/>
                </a:moveTo>
                <a:lnTo>
                  <a:pt x="23586" y="0"/>
                </a:lnTo>
                <a:lnTo>
                  <a:pt x="22186" y="1400"/>
                </a:lnTo>
                <a:lnTo>
                  <a:pt x="1400" y="1400"/>
                </a:lnTo>
                <a:close/>
              </a:path>
              <a:path fill="darken" w="23586" h="21600">
                <a:moveTo>
                  <a:pt x="23586" y="0"/>
                </a:moveTo>
                <a:lnTo>
                  <a:pt x="23586" y="21600"/>
                </a:lnTo>
                <a:lnTo>
                  <a:pt x="22186" y="20200"/>
                </a:lnTo>
                <a:lnTo>
                  <a:pt x="22186" y="1400"/>
                </a:lnTo>
                <a:close/>
              </a:path>
              <a:path fill="darkenLess" w="23586" h="21600">
                <a:moveTo>
                  <a:pt x="235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86" y="20200"/>
                </a:lnTo>
                <a:close/>
              </a:path>
              <a:path fill="lighten" w="235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86" h="21600">
                <a:moveTo>
                  <a:pt x="11793" y="3837"/>
                </a:moveTo>
                <a:lnTo>
                  <a:pt x="14369" y="6448"/>
                </a:lnTo>
                <a:lnTo>
                  <a:pt x="14369" y="4707"/>
                </a:lnTo>
                <a:lnTo>
                  <a:pt x="16145" y="4707"/>
                </a:lnTo>
                <a:lnTo>
                  <a:pt x="16145" y="8224"/>
                </a:lnTo>
                <a:lnTo>
                  <a:pt x="18756" y="10800"/>
                </a:lnTo>
                <a:lnTo>
                  <a:pt x="17102" y="10800"/>
                </a:lnTo>
                <a:lnTo>
                  <a:pt x="17102" y="17989"/>
                </a:lnTo>
                <a:lnTo>
                  <a:pt x="6484" y="17989"/>
                </a:lnTo>
                <a:lnTo>
                  <a:pt x="6484" y="10800"/>
                </a:lnTo>
                <a:lnTo>
                  <a:pt x="4830" y="10800"/>
                </a:lnTo>
                <a:close/>
              </a:path>
              <a:path fill="darkenLess" w="23586" h="21600">
                <a:moveTo>
                  <a:pt x="14369" y="6448"/>
                </a:moveTo>
                <a:lnTo>
                  <a:pt x="14369" y="4707"/>
                </a:lnTo>
                <a:lnTo>
                  <a:pt x="16145" y="4707"/>
                </a:lnTo>
                <a:lnTo>
                  <a:pt x="16145" y="8224"/>
                </a:lnTo>
                <a:close/>
              </a:path>
              <a:path fill="darkenLess" w="23586" h="21600">
                <a:moveTo>
                  <a:pt x="10870" y="14299"/>
                </a:moveTo>
                <a:lnTo>
                  <a:pt x="12716" y="14299"/>
                </a:lnTo>
                <a:lnTo>
                  <a:pt x="12716" y="17989"/>
                </a:lnTo>
                <a:lnTo>
                  <a:pt x="17102" y="17989"/>
                </a:lnTo>
                <a:lnTo>
                  <a:pt x="17102" y="10800"/>
                </a:lnTo>
                <a:lnTo>
                  <a:pt x="6484" y="10800"/>
                </a:lnTo>
                <a:lnTo>
                  <a:pt x="6484" y="17989"/>
                </a:lnTo>
                <a:lnTo>
                  <a:pt x="10870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hat did we set out to do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athered information from LTLL meeting in Narromi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mpleted the online surve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ocated weakness (red and amber light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vised an action plan for five areas of weaknes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urrently working through action pla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3 Challeng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nsuring there is continuity across all classes and stages in our schoo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ue to being in a small school we have a limited number of teachers and time to complete our LTLL pla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aking links with other schools of similar sizing and staffing to discuss processes such as a data tracking syste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">
            <a:hlinkClick r:id="rId2" action="ppaction://hlinksldjump"/>
          </p:cNvPr>
          <p:cNvSpPr/>
          <p:nvPr/>
        </p:nvSpPr>
        <p:spPr>
          <a:xfrm>
            <a:off x="7885080" y="5877000"/>
            <a:ext cx="1008000" cy="792000"/>
          </a:xfrm>
          <a:custGeom>
            <a:avLst/>
            <a:gdLst>
              <a:gd name="textAreaLeft" fmla="*/ 51120 w 1008000"/>
              <a:gd name="textAreaRight" fmla="*/ 956880 w 1008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88" h="21600">
                <a:moveTo>
                  <a:pt x="0" y="0"/>
                </a:moveTo>
                <a:lnTo>
                  <a:pt x="27488" y="0"/>
                </a:lnTo>
                <a:lnTo>
                  <a:pt x="27488" y="21600"/>
                </a:lnTo>
                <a:lnTo>
                  <a:pt x="0" y="21600"/>
                </a:lnTo>
                <a:close/>
              </a:path>
              <a:path fill="lightenLess" w="27488" h="21600">
                <a:moveTo>
                  <a:pt x="0" y="0"/>
                </a:moveTo>
                <a:lnTo>
                  <a:pt x="27488" y="0"/>
                </a:lnTo>
                <a:lnTo>
                  <a:pt x="26088" y="1400"/>
                </a:lnTo>
                <a:lnTo>
                  <a:pt x="1400" y="1400"/>
                </a:lnTo>
                <a:close/>
              </a:path>
              <a:path fill="darken" w="27488" h="21600">
                <a:moveTo>
                  <a:pt x="27488" y="0"/>
                </a:moveTo>
                <a:lnTo>
                  <a:pt x="27488" y="21600"/>
                </a:lnTo>
                <a:lnTo>
                  <a:pt x="26088" y="20200"/>
                </a:lnTo>
                <a:lnTo>
                  <a:pt x="26088" y="1400"/>
                </a:lnTo>
                <a:close/>
              </a:path>
              <a:path fill="darkenLess" w="27488" h="21600">
                <a:moveTo>
                  <a:pt x="274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8" y="20200"/>
                </a:lnTo>
                <a:close/>
              </a:path>
              <a:path fill="lighten" w="274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8" h="21600">
                <a:moveTo>
                  <a:pt x="13744" y="3837"/>
                </a:moveTo>
                <a:lnTo>
                  <a:pt x="16320" y="6448"/>
                </a:lnTo>
                <a:lnTo>
                  <a:pt x="16320" y="4707"/>
                </a:lnTo>
                <a:lnTo>
                  <a:pt x="18096" y="4707"/>
                </a:lnTo>
                <a:lnTo>
                  <a:pt x="18096" y="8224"/>
                </a:lnTo>
                <a:lnTo>
                  <a:pt x="20707" y="10800"/>
                </a:lnTo>
                <a:lnTo>
                  <a:pt x="19053" y="10800"/>
                </a:lnTo>
                <a:lnTo>
                  <a:pt x="19053" y="17989"/>
                </a:lnTo>
                <a:lnTo>
                  <a:pt x="8435" y="17989"/>
                </a:lnTo>
                <a:lnTo>
                  <a:pt x="8435" y="10800"/>
                </a:lnTo>
                <a:lnTo>
                  <a:pt x="6781" y="10800"/>
                </a:lnTo>
                <a:close/>
              </a:path>
              <a:path fill="darkenLess" w="27488" h="21600">
                <a:moveTo>
                  <a:pt x="16320" y="6448"/>
                </a:moveTo>
                <a:lnTo>
                  <a:pt x="16320" y="4707"/>
                </a:lnTo>
                <a:lnTo>
                  <a:pt x="18096" y="4707"/>
                </a:lnTo>
                <a:lnTo>
                  <a:pt x="18096" y="8224"/>
                </a:lnTo>
                <a:close/>
              </a:path>
              <a:path fill="darkenLess" w="27488" h="21600">
                <a:moveTo>
                  <a:pt x="12822" y="14299"/>
                </a:moveTo>
                <a:lnTo>
                  <a:pt x="14667" y="14299"/>
                </a:lnTo>
                <a:lnTo>
                  <a:pt x="14667" y="17989"/>
                </a:lnTo>
                <a:lnTo>
                  <a:pt x="19053" y="17989"/>
                </a:lnTo>
                <a:lnTo>
                  <a:pt x="19053" y="10800"/>
                </a:lnTo>
                <a:lnTo>
                  <a:pt x="8435" y="10800"/>
                </a:lnTo>
                <a:lnTo>
                  <a:pt x="8435" y="17989"/>
                </a:lnTo>
                <a:lnTo>
                  <a:pt x="12822" y="17989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3 things we have learn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e are developing a stronger team work ethic by looking at our school as a whole rather than working as individual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e need to put more effort into educating our parents about the processes and programs used in our classroom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crease staff and student’s skills and knowledge of technolog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7596360" y="5661000"/>
            <a:ext cx="1079280" cy="863640"/>
          </a:xfrm>
          <a:custGeom>
            <a:avLst/>
            <a:gdLst>
              <a:gd name="textAreaLeft" fmla="*/ 55800 w 1079280"/>
              <a:gd name="textAreaRight" fmla="*/ 1023480 w 107928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6991" h="21600">
                <a:moveTo>
                  <a:pt x="0" y="0"/>
                </a:moveTo>
                <a:lnTo>
                  <a:pt x="26991" y="0"/>
                </a:lnTo>
                <a:lnTo>
                  <a:pt x="26991" y="21600"/>
                </a:lnTo>
                <a:lnTo>
                  <a:pt x="0" y="21600"/>
                </a:lnTo>
                <a:close/>
              </a:path>
              <a:path fill="lightenLess" w="26991" h="21600">
                <a:moveTo>
                  <a:pt x="0" y="0"/>
                </a:moveTo>
                <a:lnTo>
                  <a:pt x="26991" y="0"/>
                </a:lnTo>
                <a:lnTo>
                  <a:pt x="25591" y="1400"/>
                </a:lnTo>
                <a:lnTo>
                  <a:pt x="1400" y="1400"/>
                </a:lnTo>
                <a:close/>
              </a:path>
              <a:path fill="darken" w="26991" h="21600">
                <a:moveTo>
                  <a:pt x="26991" y="0"/>
                </a:moveTo>
                <a:lnTo>
                  <a:pt x="26991" y="21600"/>
                </a:lnTo>
                <a:lnTo>
                  <a:pt x="25591" y="20200"/>
                </a:lnTo>
                <a:lnTo>
                  <a:pt x="25591" y="1400"/>
                </a:lnTo>
                <a:close/>
              </a:path>
              <a:path fill="darkenLess" w="26991" h="21600">
                <a:moveTo>
                  <a:pt x="26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1" y="20200"/>
                </a:lnTo>
                <a:close/>
              </a:path>
              <a:path fill="lighten" w="26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1" h="21600">
                <a:moveTo>
                  <a:pt x="13496" y="3837"/>
                </a:moveTo>
                <a:lnTo>
                  <a:pt x="16072" y="6448"/>
                </a:lnTo>
                <a:lnTo>
                  <a:pt x="16072" y="4707"/>
                </a:lnTo>
                <a:lnTo>
                  <a:pt x="17847" y="4707"/>
                </a:lnTo>
                <a:lnTo>
                  <a:pt x="17847" y="8224"/>
                </a:lnTo>
                <a:lnTo>
                  <a:pt x="20458" y="10800"/>
                </a:lnTo>
                <a:lnTo>
                  <a:pt x="18805" y="10800"/>
                </a:lnTo>
                <a:lnTo>
                  <a:pt x="18805" y="17989"/>
                </a:lnTo>
                <a:lnTo>
                  <a:pt x="8186" y="17989"/>
                </a:lnTo>
                <a:lnTo>
                  <a:pt x="8186" y="10800"/>
                </a:lnTo>
                <a:lnTo>
                  <a:pt x="6533" y="10800"/>
                </a:lnTo>
                <a:close/>
              </a:path>
              <a:path fill="darkenLess" w="26991" h="21600">
                <a:moveTo>
                  <a:pt x="16072" y="6448"/>
                </a:moveTo>
                <a:lnTo>
                  <a:pt x="16072" y="4707"/>
                </a:lnTo>
                <a:lnTo>
                  <a:pt x="17847" y="4707"/>
                </a:lnTo>
                <a:lnTo>
                  <a:pt x="17847" y="8224"/>
                </a:lnTo>
                <a:close/>
              </a:path>
              <a:path fill="darkenLess" w="26991" h="21600">
                <a:moveTo>
                  <a:pt x="12573" y="14299"/>
                </a:moveTo>
                <a:lnTo>
                  <a:pt x="14418" y="14299"/>
                </a:lnTo>
                <a:lnTo>
                  <a:pt x="14418" y="17989"/>
                </a:lnTo>
                <a:lnTo>
                  <a:pt x="18805" y="17989"/>
                </a:lnTo>
                <a:lnTo>
                  <a:pt x="18805" y="10800"/>
                </a:lnTo>
                <a:lnTo>
                  <a:pt x="8186" y="10800"/>
                </a:lnTo>
                <a:lnTo>
                  <a:pt x="8186" y="17989"/>
                </a:lnTo>
                <a:lnTo>
                  <a:pt x="12573" y="17989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Questions we still hav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the next step after the 2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of Novemb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s there a better system of lights? (too many amber light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support is there on offer for small schools using LTLL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593280" y="367920"/>
            <a:ext cx="8108280" cy="6098040"/>
            <a:chOff x="593280" y="367920"/>
            <a:chExt cx="8108280" cy="6098040"/>
          </a:xfrm>
        </p:grpSpPr>
        <p:sp>
          <p:nvSpPr>
            <p:cNvPr id="89" name="_s68630"/>
            <p:cNvSpPr/>
            <p:nvPr/>
          </p:nvSpPr>
          <p:spPr>
            <a:xfrm flipH="1" flipV="1">
              <a:off x="3196440" y="2175120"/>
              <a:ext cx="855360" cy="774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_s68629"/>
            <p:cNvSpPr/>
            <p:nvPr/>
          </p:nvSpPr>
          <p:spPr>
            <a:xfrm>
              <a:off x="1681200" y="930960"/>
              <a:ext cx="1853640" cy="14094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_s68628"/>
            <p:cNvSpPr/>
            <p:nvPr/>
          </p:nvSpPr>
          <p:spPr>
            <a:xfrm flipH="1" flipV="1">
              <a:off x="2424600" y="3191400"/>
              <a:ext cx="1312200" cy="174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_s68627"/>
            <p:cNvSpPr/>
            <p:nvPr/>
          </p:nvSpPr>
          <p:spPr>
            <a:xfrm>
              <a:off x="593280" y="2361600"/>
              <a:ext cx="1852920" cy="14094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_s68640"/>
            <p:cNvSpPr/>
            <p:nvPr/>
          </p:nvSpPr>
          <p:spPr>
            <a:xfrm flipH="1">
              <a:off x="2694240" y="3840480"/>
              <a:ext cx="1151640" cy="505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_s68639"/>
            <p:cNvSpPr/>
            <p:nvPr/>
          </p:nvSpPr>
          <p:spPr>
            <a:xfrm>
              <a:off x="968400" y="3989520"/>
              <a:ext cx="1852920" cy="14094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_s68626"/>
            <p:cNvSpPr/>
            <p:nvPr/>
          </p:nvSpPr>
          <p:spPr>
            <a:xfrm flipH="1">
              <a:off x="3876480" y="4148640"/>
              <a:ext cx="452880" cy="951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_s68625"/>
            <p:cNvSpPr/>
            <p:nvPr/>
          </p:nvSpPr>
          <p:spPr>
            <a:xfrm>
              <a:off x="2630880" y="5054400"/>
              <a:ext cx="1852920" cy="14094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_s68624"/>
            <p:cNvSpPr/>
            <p:nvPr/>
          </p:nvSpPr>
          <p:spPr>
            <a:xfrm>
              <a:off x="4961880" y="4148640"/>
              <a:ext cx="456480" cy="949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_s68623"/>
            <p:cNvSpPr/>
            <p:nvPr/>
          </p:nvSpPr>
          <p:spPr>
            <a:xfrm>
              <a:off x="4804920" y="5056200"/>
              <a:ext cx="1852920" cy="14097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_s68622"/>
            <p:cNvSpPr/>
            <p:nvPr/>
          </p:nvSpPr>
          <p:spPr>
            <a:xfrm>
              <a:off x="5445720" y="3837600"/>
              <a:ext cx="1151640" cy="505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_s68621"/>
            <p:cNvSpPr/>
            <p:nvPr/>
          </p:nvSpPr>
          <p:spPr>
            <a:xfrm>
              <a:off x="6469920" y="3994200"/>
              <a:ext cx="1853640" cy="14094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_s68620"/>
            <p:cNvSpPr/>
            <p:nvPr/>
          </p:nvSpPr>
          <p:spPr>
            <a:xfrm flipV="1">
              <a:off x="5554080" y="3189240"/>
              <a:ext cx="1309320" cy="174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_s68619"/>
            <p:cNvSpPr/>
            <p:nvPr/>
          </p:nvSpPr>
          <p:spPr>
            <a:xfrm>
              <a:off x="6848640" y="2366280"/>
              <a:ext cx="1852920" cy="14094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_s68618"/>
            <p:cNvSpPr/>
            <p:nvPr/>
          </p:nvSpPr>
          <p:spPr>
            <a:xfrm flipV="1">
              <a:off x="5236560" y="2175120"/>
              <a:ext cx="855360" cy="774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_s68617"/>
            <p:cNvSpPr/>
            <p:nvPr/>
          </p:nvSpPr>
          <p:spPr>
            <a:xfrm>
              <a:off x="5763240" y="933840"/>
              <a:ext cx="1852920" cy="14094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_s68616"/>
            <p:cNvSpPr/>
            <p:nvPr/>
          </p:nvSpPr>
          <p:spPr>
            <a:xfrm flipV="1">
              <a:off x="4644360" y="1775160"/>
              <a:ext cx="0" cy="1011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_s68615"/>
            <p:cNvSpPr/>
            <p:nvPr/>
          </p:nvSpPr>
          <p:spPr>
            <a:xfrm>
              <a:off x="3719520" y="367920"/>
              <a:ext cx="1852920" cy="14094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68614"/>
            <p:cNvSpPr/>
            <p:nvPr/>
          </p:nvSpPr>
          <p:spPr>
            <a:xfrm>
              <a:off x="3719520" y="2787120"/>
              <a:ext cx="1852920" cy="14094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mic Sans MS"/>
                </a:rPr>
                <a:t>LTLL in action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mic Sans MS"/>
                </a:rPr>
                <a:t>at St Joseph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mic Sans MS"/>
                </a:rPr>
                <a:t>Peak Hil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" name="">
            <a:hlinkClick r:id="rId2" action="ppaction://hlinksldjump"/>
          </p:cNvPr>
          <p:cNvSpPr/>
          <p:nvPr/>
        </p:nvSpPr>
        <p:spPr>
          <a:xfrm>
            <a:off x="4932360" y="5373720"/>
            <a:ext cx="1512720" cy="792000"/>
          </a:xfrm>
          <a:custGeom>
            <a:avLst/>
            <a:gdLst>
              <a:gd name="textAreaLeft" fmla="*/ 51120 w 1512720"/>
              <a:gd name="textAreaRight" fmla="*/ 1461600 w 15127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41247" h="21600">
                <a:moveTo>
                  <a:pt x="0" y="0"/>
                </a:moveTo>
                <a:lnTo>
                  <a:pt x="41247" y="0"/>
                </a:lnTo>
                <a:lnTo>
                  <a:pt x="41247" y="21600"/>
                </a:lnTo>
                <a:lnTo>
                  <a:pt x="0" y="21600"/>
                </a:lnTo>
                <a:close/>
              </a:path>
              <a:path fill="lightenLess" w="41247" h="21600">
                <a:moveTo>
                  <a:pt x="0" y="0"/>
                </a:moveTo>
                <a:lnTo>
                  <a:pt x="41247" y="0"/>
                </a:lnTo>
                <a:lnTo>
                  <a:pt x="39847" y="1400"/>
                </a:lnTo>
                <a:lnTo>
                  <a:pt x="1400" y="1400"/>
                </a:lnTo>
                <a:close/>
              </a:path>
              <a:path fill="darken" w="41247" h="21600">
                <a:moveTo>
                  <a:pt x="41247" y="0"/>
                </a:moveTo>
                <a:lnTo>
                  <a:pt x="41247" y="21600"/>
                </a:lnTo>
                <a:lnTo>
                  <a:pt x="39847" y="20200"/>
                </a:lnTo>
                <a:lnTo>
                  <a:pt x="39847" y="1400"/>
                </a:lnTo>
                <a:close/>
              </a:path>
              <a:path fill="darkenLess" w="41247" h="21600">
                <a:moveTo>
                  <a:pt x="41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847" y="20200"/>
                </a:lnTo>
                <a:close/>
              </a:path>
              <a:path fill="lighten" w="41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Comic Sans MS"/>
              </a:rPr>
              <a:t>Focus 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Organising for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learn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3" action="ppaction://hlinksldjump"/>
          </p:cNvPr>
          <p:cNvSpPr/>
          <p:nvPr/>
        </p:nvSpPr>
        <p:spPr>
          <a:xfrm>
            <a:off x="6732720" y="4292640"/>
            <a:ext cx="1368360" cy="792000"/>
          </a:xfrm>
          <a:custGeom>
            <a:avLst/>
            <a:gdLst>
              <a:gd name="textAreaLeft" fmla="*/ 51120 w 1368360"/>
              <a:gd name="textAreaRight" fmla="*/ 1317240 w 1368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37312" h="21600">
                <a:moveTo>
                  <a:pt x="0" y="0"/>
                </a:moveTo>
                <a:lnTo>
                  <a:pt x="37312" y="0"/>
                </a:lnTo>
                <a:lnTo>
                  <a:pt x="37312" y="21600"/>
                </a:lnTo>
                <a:lnTo>
                  <a:pt x="0" y="21600"/>
                </a:lnTo>
                <a:close/>
              </a:path>
              <a:path fill="lightenLess" w="37312" h="21600">
                <a:moveTo>
                  <a:pt x="0" y="0"/>
                </a:moveTo>
                <a:lnTo>
                  <a:pt x="37312" y="0"/>
                </a:lnTo>
                <a:lnTo>
                  <a:pt x="35912" y="1400"/>
                </a:lnTo>
                <a:lnTo>
                  <a:pt x="1400" y="1400"/>
                </a:lnTo>
                <a:close/>
              </a:path>
              <a:path fill="darken" w="37312" h="21600">
                <a:moveTo>
                  <a:pt x="37312" y="0"/>
                </a:moveTo>
                <a:lnTo>
                  <a:pt x="37312" y="21600"/>
                </a:lnTo>
                <a:lnTo>
                  <a:pt x="35912" y="20200"/>
                </a:lnTo>
                <a:lnTo>
                  <a:pt x="35912" y="1400"/>
                </a:lnTo>
                <a:close/>
              </a:path>
              <a:path fill="darkenLess" w="37312" h="21600">
                <a:moveTo>
                  <a:pt x="373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2" y="20200"/>
                </a:lnTo>
                <a:close/>
              </a:path>
              <a:path fill="lighten" w="373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Focus 1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The Transformed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Learn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093080" y="2637000"/>
            <a:ext cx="1296720" cy="865080"/>
          </a:xfrm>
          <a:custGeom>
            <a:avLst/>
            <a:gdLst>
              <a:gd name="textAreaLeft" fmla="*/ 55800 w 1296720"/>
              <a:gd name="textAreaRight" fmla="*/ 1240920 w 129672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32373" h="21600">
                <a:moveTo>
                  <a:pt x="0" y="0"/>
                </a:moveTo>
                <a:lnTo>
                  <a:pt x="32373" y="0"/>
                </a:lnTo>
                <a:lnTo>
                  <a:pt x="32373" y="21600"/>
                </a:lnTo>
                <a:lnTo>
                  <a:pt x="0" y="21600"/>
                </a:lnTo>
                <a:close/>
              </a:path>
              <a:path fill="lightenLess" w="32373" h="21600">
                <a:moveTo>
                  <a:pt x="0" y="0"/>
                </a:moveTo>
                <a:lnTo>
                  <a:pt x="32373" y="0"/>
                </a:lnTo>
                <a:lnTo>
                  <a:pt x="30973" y="1400"/>
                </a:lnTo>
                <a:lnTo>
                  <a:pt x="1400" y="1400"/>
                </a:lnTo>
                <a:close/>
              </a:path>
              <a:path fill="darken" w="32373" h="21600">
                <a:moveTo>
                  <a:pt x="32373" y="0"/>
                </a:moveTo>
                <a:lnTo>
                  <a:pt x="32373" y="21600"/>
                </a:lnTo>
                <a:lnTo>
                  <a:pt x="30973" y="20200"/>
                </a:lnTo>
                <a:lnTo>
                  <a:pt x="30973" y="1400"/>
                </a:lnTo>
                <a:close/>
              </a:path>
              <a:path fill="darkenLess" w="32373" h="21600">
                <a:moveTo>
                  <a:pt x="32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3" y="20200"/>
                </a:lnTo>
                <a:close/>
              </a:path>
              <a:path fill="lighten" w="32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Focus 5: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ulture and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mmunit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4" action="ppaction://hlinksldjump"/>
          </p:cNvPr>
          <p:cNvSpPr/>
          <p:nvPr/>
        </p:nvSpPr>
        <p:spPr>
          <a:xfrm>
            <a:off x="3851280" y="692280"/>
            <a:ext cx="1512720" cy="720720"/>
          </a:xfrm>
          <a:custGeom>
            <a:avLst/>
            <a:gdLst>
              <a:gd name="textAreaLeft" fmla="*/ 46440 w 1512720"/>
              <a:gd name="textAreaRight" fmla="*/ 1466280 w 1512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45324" h="21600">
                <a:moveTo>
                  <a:pt x="0" y="0"/>
                </a:moveTo>
                <a:lnTo>
                  <a:pt x="45324" y="0"/>
                </a:lnTo>
                <a:lnTo>
                  <a:pt x="45324" y="21600"/>
                </a:lnTo>
                <a:lnTo>
                  <a:pt x="0" y="21600"/>
                </a:lnTo>
                <a:close/>
              </a:path>
              <a:path fill="lightenLess" w="45324" h="21600">
                <a:moveTo>
                  <a:pt x="0" y="0"/>
                </a:moveTo>
                <a:lnTo>
                  <a:pt x="45324" y="0"/>
                </a:lnTo>
                <a:lnTo>
                  <a:pt x="43924" y="1400"/>
                </a:lnTo>
                <a:lnTo>
                  <a:pt x="1400" y="1400"/>
                </a:lnTo>
                <a:close/>
              </a:path>
              <a:path fill="darken" w="45324" h="21600">
                <a:moveTo>
                  <a:pt x="45324" y="0"/>
                </a:moveTo>
                <a:lnTo>
                  <a:pt x="45324" y="21600"/>
                </a:lnTo>
                <a:lnTo>
                  <a:pt x="43924" y="20200"/>
                </a:lnTo>
                <a:lnTo>
                  <a:pt x="43924" y="1400"/>
                </a:lnTo>
                <a:close/>
              </a:path>
              <a:path fill="darkenLess" w="45324" h="21600">
                <a:moveTo>
                  <a:pt x="453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924" y="20200"/>
                </a:lnTo>
                <a:close/>
              </a:path>
              <a:path fill="lighten" w="453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Focus 5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Leadership based 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vid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12000" y="1197000"/>
            <a:ext cx="1368360" cy="790560"/>
          </a:xfrm>
          <a:custGeom>
            <a:avLst/>
            <a:gdLst>
              <a:gd name="textAreaLeft" fmla="*/ 51120 w 1368360"/>
              <a:gd name="textAreaRight" fmla="*/ 1317240 w 1368360"/>
              <a:gd name="textAreaTop" fmla="*/ 51120 h 790560"/>
              <a:gd name="textAreaBottom" fmla="*/ 739440 h 790560"/>
            </a:gdLst>
            <a:ahLst/>
            <a:rect l="textAreaLeft" t="textAreaTop" r="textAreaRight" b="textAreaBottom"/>
            <a:pathLst>
              <a:path w="37380" h="21600">
                <a:moveTo>
                  <a:pt x="0" y="0"/>
                </a:moveTo>
                <a:lnTo>
                  <a:pt x="37380" y="0"/>
                </a:lnTo>
                <a:lnTo>
                  <a:pt x="37380" y="21600"/>
                </a:lnTo>
                <a:lnTo>
                  <a:pt x="0" y="21600"/>
                </a:lnTo>
                <a:close/>
              </a:path>
              <a:path fill="lightenLess" w="37380" h="21600">
                <a:moveTo>
                  <a:pt x="0" y="0"/>
                </a:moveTo>
                <a:lnTo>
                  <a:pt x="37380" y="0"/>
                </a:lnTo>
                <a:lnTo>
                  <a:pt x="35980" y="1400"/>
                </a:lnTo>
                <a:lnTo>
                  <a:pt x="1400" y="1400"/>
                </a:lnTo>
                <a:close/>
              </a:path>
              <a:path fill="darken" w="37380" h="21600">
                <a:moveTo>
                  <a:pt x="37380" y="0"/>
                </a:moveTo>
                <a:lnTo>
                  <a:pt x="37380" y="21600"/>
                </a:lnTo>
                <a:lnTo>
                  <a:pt x="35980" y="20200"/>
                </a:lnTo>
                <a:lnTo>
                  <a:pt x="35980" y="1400"/>
                </a:lnTo>
                <a:close/>
              </a:path>
              <a:path fill="darkenLess" w="37380" h="21600">
                <a:moveTo>
                  <a:pt x="37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80" y="20200"/>
                </a:lnTo>
                <a:close/>
              </a:path>
              <a:path fill="lighten" w="37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Focus 3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xcell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58920" y="4292640"/>
            <a:ext cx="1297080" cy="720720"/>
          </a:xfrm>
          <a:custGeom>
            <a:avLst/>
            <a:gdLst>
              <a:gd name="textAreaLeft" fmla="*/ 46440 w 1297080"/>
              <a:gd name="textAreaRight" fmla="*/ 1250640 w 12970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8865" h="21600">
                <a:moveTo>
                  <a:pt x="0" y="0"/>
                </a:moveTo>
                <a:lnTo>
                  <a:pt x="38865" y="0"/>
                </a:lnTo>
                <a:lnTo>
                  <a:pt x="38865" y="21600"/>
                </a:lnTo>
                <a:lnTo>
                  <a:pt x="0" y="21600"/>
                </a:lnTo>
                <a:close/>
              </a:path>
              <a:path fill="lightenLess" w="38865" h="21600">
                <a:moveTo>
                  <a:pt x="0" y="0"/>
                </a:moveTo>
                <a:lnTo>
                  <a:pt x="38865" y="0"/>
                </a:lnTo>
                <a:lnTo>
                  <a:pt x="37465" y="1400"/>
                </a:lnTo>
                <a:lnTo>
                  <a:pt x="1400" y="1400"/>
                </a:lnTo>
                <a:close/>
              </a:path>
              <a:path fill="darken" w="38865" h="21600">
                <a:moveTo>
                  <a:pt x="38865" y="0"/>
                </a:moveTo>
                <a:lnTo>
                  <a:pt x="38865" y="21600"/>
                </a:lnTo>
                <a:lnTo>
                  <a:pt x="37465" y="20200"/>
                </a:lnTo>
                <a:lnTo>
                  <a:pt x="37465" y="1400"/>
                </a:lnTo>
                <a:close/>
              </a:path>
              <a:path fill="darkenLess" w="38865" h="21600">
                <a:moveTo>
                  <a:pt x="388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5" y="20200"/>
                </a:lnTo>
                <a:close/>
              </a:path>
              <a:path fill="lighten" w="388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halle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26920" y="2637000"/>
            <a:ext cx="1368720" cy="718920"/>
          </a:xfrm>
          <a:custGeom>
            <a:avLst/>
            <a:gdLst>
              <a:gd name="textAreaLeft" fmla="*/ 46440 w 1368720"/>
              <a:gd name="textAreaRight" fmla="*/ 1322280 w 13687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41114" h="21600">
                <a:moveTo>
                  <a:pt x="0" y="0"/>
                </a:moveTo>
                <a:lnTo>
                  <a:pt x="41114" y="0"/>
                </a:lnTo>
                <a:lnTo>
                  <a:pt x="41114" y="21600"/>
                </a:lnTo>
                <a:lnTo>
                  <a:pt x="0" y="21600"/>
                </a:lnTo>
                <a:close/>
              </a:path>
              <a:path fill="lightenLess" w="41114" h="21600">
                <a:moveTo>
                  <a:pt x="0" y="0"/>
                </a:moveTo>
                <a:lnTo>
                  <a:pt x="41114" y="0"/>
                </a:lnTo>
                <a:lnTo>
                  <a:pt x="39714" y="1400"/>
                </a:lnTo>
                <a:lnTo>
                  <a:pt x="1400" y="1400"/>
                </a:lnTo>
                <a:close/>
              </a:path>
              <a:path fill="darken" w="41114" h="21600">
                <a:moveTo>
                  <a:pt x="41114" y="0"/>
                </a:moveTo>
                <a:lnTo>
                  <a:pt x="41114" y="21600"/>
                </a:lnTo>
                <a:lnTo>
                  <a:pt x="39714" y="20200"/>
                </a:lnTo>
                <a:lnTo>
                  <a:pt x="39714" y="1400"/>
                </a:lnTo>
                <a:close/>
              </a:path>
              <a:path fill="darkenLess" w="41114" h="21600">
                <a:moveTo>
                  <a:pt x="411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714" y="20200"/>
                </a:lnTo>
                <a:close/>
              </a:path>
              <a:path fill="lighten" w="411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omic Sans MS"/>
              </a:rPr>
              <a:t>Learni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1268280"/>
            <a:ext cx="1368720" cy="720720"/>
          </a:xfrm>
          <a:custGeom>
            <a:avLst/>
            <a:gdLst>
              <a:gd name="textAreaLeft" fmla="*/ 46440 w 1368720"/>
              <a:gd name="textAreaRight" fmla="*/ 1322280 w 1368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41011" h="21600">
                <a:moveTo>
                  <a:pt x="0" y="0"/>
                </a:moveTo>
                <a:lnTo>
                  <a:pt x="41011" y="0"/>
                </a:lnTo>
                <a:lnTo>
                  <a:pt x="41011" y="21600"/>
                </a:lnTo>
                <a:lnTo>
                  <a:pt x="0" y="21600"/>
                </a:lnTo>
                <a:close/>
              </a:path>
              <a:path fill="lightenLess" w="41011" h="21600">
                <a:moveTo>
                  <a:pt x="0" y="0"/>
                </a:moveTo>
                <a:lnTo>
                  <a:pt x="41011" y="0"/>
                </a:lnTo>
                <a:lnTo>
                  <a:pt x="39611" y="1400"/>
                </a:lnTo>
                <a:lnTo>
                  <a:pt x="1400" y="1400"/>
                </a:lnTo>
                <a:close/>
              </a:path>
              <a:path fill="darken" w="41011" h="21600">
                <a:moveTo>
                  <a:pt x="41011" y="0"/>
                </a:moveTo>
                <a:lnTo>
                  <a:pt x="41011" y="21600"/>
                </a:lnTo>
                <a:lnTo>
                  <a:pt x="39611" y="20200"/>
                </a:lnTo>
                <a:lnTo>
                  <a:pt x="39611" y="1400"/>
                </a:lnTo>
                <a:close/>
              </a:path>
              <a:path fill="darkenLess" w="41011" h="21600">
                <a:moveTo>
                  <a:pt x="410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11" y="20200"/>
                </a:lnTo>
                <a:close/>
              </a:path>
              <a:path fill="lighten" w="410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Ques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16360" y="5445000"/>
            <a:ext cx="1296720" cy="648000"/>
          </a:xfrm>
          <a:custGeom>
            <a:avLst/>
            <a:gdLst>
              <a:gd name="textAreaLeft" fmla="*/ 41760 w 1296720"/>
              <a:gd name="textAreaRight" fmla="*/ 1254960 w 129672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43212" h="21600">
                <a:moveTo>
                  <a:pt x="0" y="0"/>
                </a:moveTo>
                <a:lnTo>
                  <a:pt x="43212" y="0"/>
                </a:lnTo>
                <a:lnTo>
                  <a:pt x="43212" y="21600"/>
                </a:lnTo>
                <a:lnTo>
                  <a:pt x="0" y="21600"/>
                </a:lnTo>
                <a:close/>
              </a:path>
              <a:path fill="lightenLess" w="43212" h="21600">
                <a:moveTo>
                  <a:pt x="0" y="0"/>
                </a:moveTo>
                <a:lnTo>
                  <a:pt x="43212" y="0"/>
                </a:lnTo>
                <a:lnTo>
                  <a:pt x="41812" y="1400"/>
                </a:lnTo>
                <a:lnTo>
                  <a:pt x="1400" y="1400"/>
                </a:lnTo>
                <a:close/>
              </a:path>
              <a:path fill="darken" w="43212" h="21600">
                <a:moveTo>
                  <a:pt x="43212" y="0"/>
                </a:moveTo>
                <a:lnTo>
                  <a:pt x="43212" y="21600"/>
                </a:lnTo>
                <a:lnTo>
                  <a:pt x="41812" y="20200"/>
                </a:lnTo>
                <a:lnTo>
                  <a:pt x="41812" y="1400"/>
                </a:lnTo>
                <a:close/>
              </a:path>
              <a:path fill="darkenLess" w="43212" h="21600">
                <a:moveTo>
                  <a:pt x="432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12" y="20200"/>
                </a:lnTo>
                <a:close/>
              </a:path>
              <a:path fill="lighten" w="432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u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Focus 5: Educative Leadershi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Leadership based on evid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as procedures for the routine collection of relevant eviden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as procedures for interpreting da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cts on the basis of feedback on performan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900000" y="5877000"/>
            <a:ext cx="792360" cy="576360"/>
          </a:xfrm>
          <a:custGeom>
            <a:avLst/>
            <a:gdLst>
              <a:gd name="textAreaLeft" fmla="*/ 37080 w 792360"/>
              <a:gd name="textAreaRight" fmla="*/ 755280 w 792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9690" h="21600">
                <a:moveTo>
                  <a:pt x="0" y="0"/>
                </a:moveTo>
                <a:lnTo>
                  <a:pt x="29690" y="0"/>
                </a:lnTo>
                <a:lnTo>
                  <a:pt x="29690" y="21600"/>
                </a:lnTo>
                <a:lnTo>
                  <a:pt x="0" y="21600"/>
                </a:lnTo>
                <a:close/>
              </a:path>
              <a:path fill="lightenLess" w="29690" h="21600">
                <a:moveTo>
                  <a:pt x="0" y="0"/>
                </a:moveTo>
                <a:lnTo>
                  <a:pt x="29690" y="0"/>
                </a:lnTo>
                <a:lnTo>
                  <a:pt x="28290" y="1400"/>
                </a:lnTo>
                <a:lnTo>
                  <a:pt x="1400" y="1400"/>
                </a:lnTo>
                <a:close/>
              </a:path>
              <a:path fill="darken" w="29690" h="21600">
                <a:moveTo>
                  <a:pt x="29690" y="0"/>
                </a:moveTo>
                <a:lnTo>
                  <a:pt x="29690" y="21600"/>
                </a:lnTo>
                <a:lnTo>
                  <a:pt x="28290" y="20200"/>
                </a:lnTo>
                <a:lnTo>
                  <a:pt x="28290" y="1400"/>
                </a:lnTo>
                <a:close/>
              </a:path>
              <a:path fill="darkenLess" w="29690" h="21600">
                <a:moveTo>
                  <a:pt x="29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0" y="20200"/>
                </a:lnTo>
                <a:close/>
              </a:path>
              <a:path fill="lighten" w="29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1835280" y="5877000"/>
            <a:ext cx="792000" cy="57636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9676" h="21600">
                <a:moveTo>
                  <a:pt x="0" y="0"/>
                </a:moveTo>
                <a:lnTo>
                  <a:pt x="29676" y="0"/>
                </a:lnTo>
                <a:lnTo>
                  <a:pt x="29676" y="21600"/>
                </a:lnTo>
                <a:lnTo>
                  <a:pt x="0" y="21600"/>
                </a:lnTo>
                <a:close/>
              </a:path>
              <a:path fill="lightenLess" w="29676" h="21600">
                <a:moveTo>
                  <a:pt x="0" y="0"/>
                </a:moveTo>
                <a:lnTo>
                  <a:pt x="29676" y="0"/>
                </a:lnTo>
                <a:lnTo>
                  <a:pt x="28276" y="1400"/>
                </a:lnTo>
                <a:lnTo>
                  <a:pt x="1400" y="1400"/>
                </a:lnTo>
                <a:close/>
              </a:path>
              <a:path fill="darken" w="29676" h="21600">
                <a:moveTo>
                  <a:pt x="29676" y="0"/>
                </a:moveTo>
                <a:lnTo>
                  <a:pt x="29676" y="21600"/>
                </a:lnTo>
                <a:lnTo>
                  <a:pt x="28276" y="20200"/>
                </a:lnTo>
                <a:lnTo>
                  <a:pt x="28276" y="1400"/>
                </a:lnTo>
                <a:close/>
              </a:path>
              <a:path fill="darkenLess" w="29676" h="21600">
                <a:moveTo>
                  <a:pt x="296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6" y="20200"/>
                </a:lnTo>
                <a:close/>
              </a:path>
              <a:path fill="lighten" w="296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4" action="ppaction://hlinksldjump"/>
          </p:cNvPr>
          <p:cNvSpPr/>
          <p:nvPr/>
        </p:nvSpPr>
        <p:spPr>
          <a:xfrm>
            <a:off x="8028000" y="5877000"/>
            <a:ext cx="865080" cy="792000"/>
          </a:xfrm>
          <a:custGeom>
            <a:avLst/>
            <a:gdLst>
              <a:gd name="textAreaLeft" fmla="*/ 51120 w 865080"/>
              <a:gd name="textAreaRight" fmla="*/ 813960 w 865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3592" h="21600">
                <a:moveTo>
                  <a:pt x="0" y="0"/>
                </a:moveTo>
                <a:lnTo>
                  <a:pt x="23592" y="0"/>
                </a:lnTo>
                <a:lnTo>
                  <a:pt x="23592" y="21600"/>
                </a:lnTo>
                <a:lnTo>
                  <a:pt x="0" y="21600"/>
                </a:lnTo>
                <a:close/>
              </a:path>
              <a:path fill="lightenLess" w="23592" h="21600">
                <a:moveTo>
                  <a:pt x="0" y="0"/>
                </a:moveTo>
                <a:lnTo>
                  <a:pt x="23592" y="0"/>
                </a:lnTo>
                <a:lnTo>
                  <a:pt x="22192" y="1400"/>
                </a:lnTo>
                <a:lnTo>
                  <a:pt x="1400" y="1400"/>
                </a:lnTo>
                <a:close/>
              </a:path>
              <a:path fill="darken" w="23592" h="21600">
                <a:moveTo>
                  <a:pt x="23592" y="0"/>
                </a:moveTo>
                <a:lnTo>
                  <a:pt x="23592" y="21600"/>
                </a:lnTo>
                <a:lnTo>
                  <a:pt x="22192" y="20200"/>
                </a:lnTo>
                <a:lnTo>
                  <a:pt x="22192" y="1400"/>
                </a:lnTo>
                <a:close/>
              </a:path>
              <a:path fill="darkenLess" w="23592" h="21600">
                <a:moveTo>
                  <a:pt x="23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92" y="20200"/>
                </a:lnTo>
                <a:close/>
              </a:path>
              <a:path fill="lighten" w="23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92" h="21600">
                <a:moveTo>
                  <a:pt x="11796" y="3837"/>
                </a:moveTo>
                <a:lnTo>
                  <a:pt x="14372" y="6448"/>
                </a:lnTo>
                <a:lnTo>
                  <a:pt x="14372" y="4707"/>
                </a:lnTo>
                <a:lnTo>
                  <a:pt x="16148" y="4707"/>
                </a:lnTo>
                <a:lnTo>
                  <a:pt x="16148" y="8224"/>
                </a:lnTo>
                <a:lnTo>
                  <a:pt x="18759" y="10800"/>
                </a:lnTo>
                <a:lnTo>
                  <a:pt x="17105" y="10800"/>
                </a:lnTo>
                <a:lnTo>
                  <a:pt x="17105" y="17989"/>
                </a:lnTo>
                <a:lnTo>
                  <a:pt x="6487" y="17989"/>
                </a:lnTo>
                <a:lnTo>
                  <a:pt x="6487" y="10800"/>
                </a:lnTo>
                <a:lnTo>
                  <a:pt x="4833" y="10800"/>
                </a:lnTo>
                <a:close/>
              </a:path>
              <a:path fill="darkenLess" w="23592" h="21600">
                <a:moveTo>
                  <a:pt x="14372" y="6448"/>
                </a:moveTo>
                <a:lnTo>
                  <a:pt x="14372" y="4707"/>
                </a:lnTo>
                <a:lnTo>
                  <a:pt x="16148" y="4707"/>
                </a:lnTo>
                <a:lnTo>
                  <a:pt x="16148" y="8224"/>
                </a:lnTo>
                <a:close/>
              </a:path>
              <a:path fill="darkenLess" w="23592" h="21600">
                <a:moveTo>
                  <a:pt x="10874" y="14299"/>
                </a:moveTo>
                <a:lnTo>
                  <a:pt x="12719" y="14299"/>
                </a:lnTo>
                <a:lnTo>
                  <a:pt x="12719" y="17989"/>
                </a:lnTo>
                <a:lnTo>
                  <a:pt x="17105" y="17989"/>
                </a:lnTo>
                <a:lnTo>
                  <a:pt x="17105" y="10800"/>
                </a:lnTo>
                <a:lnTo>
                  <a:pt x="6487" y="10800"/>
                </a:lnTo>
                <a:lnTo>
                  <a:pt x="6487" y="17989"/>
                </a:lnTo>
                <a:lnTo>
                  <a:pt x="10874" y="17989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7885080" y="1700280"/>
            <a:ext cx="936720" cy="2275560"/>
            <a:chOff x="7885080" y="1700280"/>
            <a:chExt cx="936720" cy="2275560"/>
          </a:xfrm>
        </p:grpSpPr>
        <p:grpSp>
          <p:nvGrpSpPr>
            <p:cNvPr id="123" name=""/>
            <p:cNvGrpSpPr/>
            <p:nvPr/>
          </p:nvGrpSpPr>
          <p:grpSpPr>
            <a:xfrm>
              <a:off x="7885080" y="1744560"/>
              <a:ext cx="936720" cy="2231280"/>
              <a:chOff x="7885080" y="1744560"/>
              <a:chExt cx="936720" cy="2231280"/>
            </a:xfrm>
          </p:grpSpPr>
          <p:sp>
            <p:nvSpPr>
              <p:cNvPr id="124" name=""/>
              <p:cNvSpPr/>
              <p:nvPr/>
            </p:nvSpPr>
            <p:spPr>
              <a:xfrm>
                <a:off x="7885080" y="1744560"/>
                <a:ext cx="936720" cy="1728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316720" y="3472920"/>
                <a:ext cx="73080" cy="502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173800" y="1959840"/>
                <a:ext cx="360360" cy="35856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173800" y="2464920"/>
                <a:ext cx="360360" cy="358200"/>
              </a:xfrm>
              <a:prstGeom prst="flowChartConnector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173800" y="2968200"/>
                <a:ext cx="360360" cy="358200"/>
              </a:xfrm>
              <a:prstGeom prst="flowChartConnector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7956720" y="1700280"/>
              <a:ext cx="792000" cy="792000"/>
            </a:xfrm>
            <a:prstGeom prst="irregularSeal1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172720" y="1915920"/>
              <a:ext cx="360360" cy="360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Reasoning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ata is stored in classroom progra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ssessments to be analys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>
            <a:hlinkClick r:id="rId2" action="ppaction://hlinksldjump"/>
          </p:cNvPr>
          <p:cNvSpPr/>
          <p:nvPr/>
        </p:nvSpPr>
        <p:spPr>
          <a:xfrm>
            <a:off x="7956720" y="5950080"/>
            <a:ext cx="936360" cy="718920"/>
          </a:xfrm>
          <a:custGeom>
            <a:avLst/>
            <a:gdLst>
              <a:gd name="textAreaLeft" fmla="*/ 46440 w 936360"/>
              <a:gd name="textAreaRight" fmla="*/ 889920 w 93636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8130" h="21600">
                <a:moveTo>
                  <a:pt x="0" y="0"/>
                </a:moveTo>
                <a:lnTo>
                  <a:pt x="28130" y="0"/>
                </a:lnTo>
                <a:lnTo>
                  <a:pt x="28130" y="21600"/>
                </a:lnTo>
                <a:lnTo>
                  <a:pt x="0" y="21600"/>
                </a:lnTo>
                <a:close/>
              </a:path>
              <a:path fill="lightenLess" w="28130" h="21600">
                <a:moveTo>
                  <a:pt x="0" y="0"/>
                </a:moveTo>
                <a:lnTo>
                  <a:pt x="28130" y="0"/>
                </a:lnTo>
                <a:lnTo>
                  <a:pt x="26730" y="1400"/>
                </a:lnTo>
                <a:lnTo>
                  <a:pt x="1400" y="1400"/>
                </a:lnTo>
                <a:close/>
              </a:path>
              <a:path fill="darken" w="28130" h="21600">
                <a:moveTo>
                  <a:pt x="28130" y="0"/>
                </a:moveTo>
                <a:lnTo>
                  <a:pt x="28130" y="21600"/>
                </a:lnTo>
                <a:lnTo>
                  <a:pt x="26730" y="20200"/>
                </a:lnTo>
                <a:lnTo>
                  <a:pt x="26730" y="1400"/>
                </a:lnTo>
                <a:close/>
              </a:path>
              <a:path fill="darkenLess" w="28130" h="21600">
                <a:moveTo>
                  <a:pt x="281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30" y="20200"/>
                </a:lnTo>
                <a:close/>
              </a:path>
              <a:path fill="lighten" w="281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30" h="21600">
                <a:moveTo>
                  <a:pt x="7058" y="10800"/>
                </a:moveTo>
                <a:lnTo>
                  <a:pt x="21071" y="3794"/>
                </a:lnTo>
                <a:lnTo>
                  <a:pt x="2107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hat have we don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2yr growth in NAPL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tandardised testing as evidence of growt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racking growt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nalyse data and target students for interven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ole school approach to data analysi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ST is devising a system for data coll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>
            <a:hlinkClick r:id="rId2" action="ppaction://hlinksldjump"/>
          </p:cNvPr>
          <p:cNvSpPr/>
          <p:nvPr/>
        </p:nvSpPr>
        <p:spPr>
          <a:xfrm>
            <a:off x="7812000" y="5805360"/>
            <a:ext cx="1008000" cy="792360"/>
          </a:xfrm>
          <a:custGeom>
            <a:avLst/>
            <a:gdLst>
              <a:gd name="textAreaLeft" fmla="*/ 51120 w 1008000"/>
              <a:gd name="textAreaRight" fmla="*/ 956880 w 100800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7476" h="21600">
                <a:moveTo>
                  <a:pt x="0" y="0"/>
                </a:moveTo>
                <a:lnTo>
                  <a:pt x="27476" y="0"/>
                </a:lnTo>
                <a:lnTo>
                  <a:pt x="27476" y="21600"/>
                </a:lnTo>
                <a:lnTo>
                  <a:pt x="0" y="21600"/>
                </a:lnTo>
                <a:close/>
              </a:path>
              <a:path fill="lightenLess" w="27476" h="21600">
                <a:moveTo>
                  <a:pt x="0" y="0"/>
                </a:moveTo>
                <a:lnTo>
                  <a:pt x="27476" y="0"/>
                </a:lnTo>
                <a:lnTo>
                  <a:pt x="26076" y="1400"/>
                </a:lnTo>
                <a:lnTo>
                  <a:pt x="1400" y="1400"/>
                </a:lnTo>
                <a:close/>
              </a:path>
              <a:path fill="darken" w="27476" h="21600">
                <a:moveTo>
                  <a:pt x="27476" y="0"/>
                </a:moveTo>
                <a:lnTo>
                  <a:pt x="27476" y="21600"/>
                </a:lnTo>
                <a:lnTo>
                  <a:pt x="26076" y="20200"/>
                </a:lnTo>
                <a:lnTo>
                  <a:pt x="26076" y="1400"/>
                </a:lnTo>
                <a:close/>
              </a:path>
              <a:path fill="darkenLess" w="27476" h="21600">
                <a:moveTo>
                  <a:pt x="274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76" y="20200"/>
                </a:lnTo>
                <a:close/>
              </a:path>
              <a:path fill="lighten" w="274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76" h="21600">
                <a:moveTo>
                  <a:pt x="6731" y="10800"/>
                </a:moveTo>
                <a:lnTo>
                  <a:pt x="20744" y="3794"/>
                </a:lnTo>
                <a:lnTo>
                  <a:pt x="20744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Focus 3: Valu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Comic Sans MS"/>
              </a:rPr>
              <a:t>Excell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hares an explicit view of what constitutes good teaching and lear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as high expectations of students and learn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826920" y="5877000"/>
            <a:ext cx="792360" cy="576360"/>
          </a:xfrm>
          <a:custGeom>
            <a:avLst/>
            <a:gdLst>
              <a:gd name="textAreaLeft" fmla="*/ 37080 w 792360"/>
              <a:gd name="textAreaRight" fmla="*/ 755280 w 792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9690" h="21600">
                <a:moveTo>
                  <a:pt x="0" y="0"/>
                </a:moveTo>
                <a:lnTo>
                  <a:pt x="29690" y="0"/>
                </a:lnTo>
                <a:lnTo>
                  <a:pt x="29690" y="21600"/>
                </a:lnTo>
                <a:lnTo>
                  <a:pt x="0" y="21600"/>
                </a:lnTo>
                <a:close/>
              </a:path>
              <a:path fill="lightenLess" w="29690" h="21600">
                <a:moveTo>
                  <a:pt x="0" y="0"/>
                </a:moveTo>
                <a:lnTo>
                  <a:pt x="29690" y="0"/>
                </a:lnTo>
                <a:lnTo>
                  <a:pt x="28290" y="1400"/>
                </a:lnTo>
                <a:lnTo>
                  <a:pt x="1400" y="1400"/>
                </a:lnTo>
                <a:close/>
              </a:path>
              <a:path fill="darken" w="29690" h="21600">
                <a:moveTo>
                  <a:pt x="29690" y="0"/>
                </a:moveTo>
                <a:lnTo>
                  <a:pt x="29690" y="21600"/>
                </a:lnTo>
                <a:lnTo>
                  <a:pt x="28290" y="20200"/>
                </a:lnTo>
                <a:lnTo>
                  <a:pt x="28290" y="1400"/>
                </a:lnTo>
                <a:close/>
              </a:path>
              <a:path fill="darkenLess" w="29690" h="21600">
                <a:moveTo>
                  <a:pt x="29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0" y="20200"/>
                </a:lnTo>
                <a:close/>
              </a:path>
              <a:path fill="lighten" w="29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08000" y="5877000"/>
            <a:ext cx="792360" cy="576360"/>
          </a:xfrm>
          <a:custGeom>
            <a:avLst/>
            <a:gdLst>
              <a:gd name="textAreaLeft" fmla="*/ 37080 w 792360"/>
              <a:gd name="textAreaRight" fmla="*/ 755280 w 792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9690" h="21600">
                <a:moveTo>
                  <a:pt x="0" y="0"/>
                </a:moveTo>
                <a:lnTo>
                  <a:pt x="29690" y="0"/>
                </a:lnTo>
                <a:lnTo>
                  <a:pt x="29690" y="21600"/>
                </a:lnTo>
                <a:lnTo>
                  <a:pt x="0" y="21600"/>
                </a:lnTo>
                <a:close/>
              </a:path>
              <a:path fill="lightenLess" w="29690" h="21600">
                <a:moveTo>
                  <a:pt x="0" y="0"/>
                </a:moveTo>
                <a:lnTo>
                  <a:pt x="29690" y="0"/>
                </a:lnTo>
                <a:lnTo>
                  <a:pt x="28290" y="1400"/>
                </a:lnTo>
                <a:lnTo>
                  <a:pt x="1400" y="1400"/>
                </a:lnTo>
                <a:close/>
              </a:path>
              <a:path fill="darken" w="29690" h="21600">
                <a:moveTo>
                  <a:pt x="29690" y="0"/>
                </a:moveTo>
                <a:lnTo>
                  <a:pt x="29690" y="21600"/>
                </a:lnTo>
                <a:lnTo>
                  <a:pt x="28290" y="20200"/>
                </a:lnTo>
                <a:lnTo>
                  <a:pt x="28290" y="1400"/>
                </a:lnTo>
                <a:close/>
              </a:path>
              <a:path fill="darkenLess" w="29690" h="21600">
                <a:moveTo>
                  <a:pt x="29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0" y="20200"/>
                </a:lnTo>
                <a:close/>
              </a:path>
              <a:path fill="lighten" w="29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>
            <a:hlinkClick r:id="rId2" action="ppaction://hlinksldjump"/>
          </p:cNvPr>
          <p:cNvSpPr/>
          <p:nvPr/>
        </p:nvSpPr>
        <p:spPr>
          <a:xfrm>
            <a:off x="7667640" y="5805360"/>
            <a:ext cx="865080" cy="719280"/>
          </a:xfrm>
          <a:custGeom>
            <a:avLst/>
            <a:gdLst>
              <a:gd name="textAreaLeft" fmla="*/ 46440 w 865080"/>
              <a:gd name="textAreaRight" fmla="*/ 818640 w 8650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76" h="21600">
                <a:moveTo>
                  <a:pt x="0" y="0"/>
                </a:moveTo>
                <a:lnTo>
                  <a:pt x="25976" y="0"/>
                </a:lnTo>
                <a:lnTo>
                  <a:pt x="25976" y="21600"/>
                </a:lnTo>
                <a:lnTo>
                  <a:pt x="0" y="21600"/>
                </a:lnTo>
                <a:close/>
              </a:path>
              <a:path fill="lightenLess" w="25976" h="21600">
                <a:moveTo>
                  <a:pt x="0" y="0"/>
                </a:moveTo>
                <a:lnTo>
                  <a:pt x="25976" y="0"/>
                </a:lnTo>
                <a:lnTo>
                  <a:pt x="24576" y="1400"/>
                </a:lnTo>
                <a:lnTo>
                  <a:pt x="1400" y="1400"/>
                </a:lnTo>
                <a:close/>
              </a:path>
              <a:path fill="darken" w="25976" h="21600">
                <a:moveTo>
                  <a:pt x="25976" y="0"/>
                </a:moveTo>
                <a:lnTo>
                  <a:pt x="25976" y="21600"/>
                </a:lnTo>
                <a:lnTo>
                  <a:pt x="24576" y="20200"/>
                </a:lnTo>
                <a:lnTo>
                  <a:pt x="24576" y="1400"/>
                </a:lnTo>
                <a:close/>
              </a:path>
              <a:path fill="darkenLess" w="25976" h="21600">
                <a:moveTo>
                  <a:pt x="25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6" y="20200"/>
                </a:lnTo>
                <a:close/>
              </a:path>
              <a:path fill="lighten" w="25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6" h="21600">
                <a:moveTo>
                  <a:pt x="12988" y="3837"/>
                </a:moveTo>
                <a:lnTo>
                  <a:pt x="15564" y="6448"/>
                </a:lnTo>
                <a:lnTo>
                  <a:pt x="15564" y="4707"/>
                </a:lnTo>
                <a:lnTo>
                  <a:pt x="17340" y="4707"/>
                </a:lnTo>
                <a:lnTo>
                  <a:pt x="17340" y="8224"/>
                </a:lnTo>
                <a:lnTo>
                  <a:pt x="19951" y="10800"/>
                </a:lnTo>
                <a:lnTo>
                  <a:pt x="18297" y="10800"/>
                </a:lnTo>
                <a:lnTo>
                  <a:pt x="18297" y="17989"/>
                </a:lnTo>
                <a:lnTo>
                  <a:pt x="7679" y="17989"/>
                </a:lnTo>
                <a:lnTo>
                  <a:pt x="7679" y="10800"/>
                </a:lnTo>
                <a:lnTo>
                  <a:pt x="6025" y="10800"/>
                </a:lnTo>
                <a:close/>
              </a:path>
              <a:path fill="darkenLess" w="25976" h="21600">
                <a:moveTo>
                  <a:pt x="15564" y="6448"/>
                </a:moveTo>
                <a:lnTo>
                  <a:pt x="15564" y="4707"/>
                </a:lnTo>
                <a:lnTo>
                  <a:pt x="17340" y="4707"/>
                </a:lnTo>
                <a:lnTo>
                  <a:pt x="17340" y="8224"/>
                </a:lnTo>
                <a:close/>
              </a:path>
              <a:path fill="darkenLess" w="25976" h="21600">
                <a:moveTo>
                  <a:pt x="12066" y="14299"/>
                </a:moveTo>
                <a:lnTo>
                  <a:pt x="13911" y="14299"/>
                </a:lnTo>
                <a:lnTo>
                  <a:pt x="13911" y="17989"/>
                </a:lnTo>
                <a:lnTo>
                  <a:pt x="18297" y="17989"/>
                </a:lnTo>
                <a:lnTo>
                  <a:pt x="18297" y="10800"/>
                </a:lnTo>
                <a:lnTo>
                  <a:pt x="7679" y="10800"/>
                </a:lnTo>
                <a:lnTo>
                  <a:pt x="7679" y="17989"/>
                </a:lnTo>
                <a:lnTo>
                  <a:pt x="12066" y="17989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8028000" y="1268280"/>
            <a:ext cx="936720" cy="2232000"/>
            <a:chOff x="8028000" y="1268280"/>
            <a:chExt cx="936720" cy="2232000"/>
          </a:xfrm>
        </p:grpSpPr>
        <p:grpSp>
          <p:nvGrpSpPr>
            <p:cNvPr id="143" name=""/>
            <p:cNvGrpSpPr/>
            <p:nvPr/>
          </p:nvGrpSpPr>
          <p:grpSpPr>
            <a:xfrm>
              <a:off x="8028000" y="1268280"/>
              <a:ext cx="936720" cy="2232000"/>
              <a:chOff x="8028000" y="1268280"/>
              <a:chExt cx="936720" cy="2232000"/>
            </a:xfrm>
          </p:grpSpPr>
          <p:sp>
            <p:nvSpPr>
              <p:cNvPr id="144" name=""/>
              <p:cNvSpPr/>
              <p:nvPr/>
            </p:nvSpPr>
            <p:spPr>
              <a:xfrm>
                <a:off x="8028000" y="1268280"/>
                <a:ext cx="936720" cy="1728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59640" y="2997000"/>
                <a:ext cx="73080" cy="503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316720" y="1483920"/>
                <a:ext cx="360360" cy="35892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316720" y="1989000"/>
                <a:ext cx="360360" cy="358560"/>
              </a:xfrm>
              <a:prstGeom prst="flowChartConnector">
                <a:avLst/>
              </a:prstGeom>
              <a:solidFill>
                <a:srgbClr val="ff6600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316720" y="2492280"/>
                <a:ext cx="360360" cy="358560"/>
              </a:xfrm>
              <a:prstGeom prst="flowChartConnector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8172360" y="1844640"/>
              <a:ext cx="647640" cy="649440"/>
            </a:xfrm>
            <a:prstGeom prst="irregularSeal1">
              <a:avLst/>
            </a:pr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317080" y="1989000"/>
              <a:ext cx="358560" cy="360360"/>
            </a:xfrm>
            <a:prstGeom prst="ellipse">
              <a:avLst/>
            </a:prstGeom>
            <a:solidFill>
              <a:srgbClr val="ff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Reason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xposure to current teaching and learn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aise the bar of expect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lexible teaching sty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">
            <a:hlinkClick r:id="rId2" action="ppaction://hlinksldjump"/>
          </p:cNvPr>
          <p:cNvSpPr/>
          <p:nvPr/>
        </p:nvSpPr>
        <p:spPr>
          <a:xfrm>
            <a:off x="7885080" y="5734080"/>
            <a:ext cx="863640" cy="71928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33" h="21600">
                <a:moveTo>
                  <a:pt x="0" y="0"/>
                </a:moveTo>
                <a:lnTo>
                  <a:pt x="25933" y="0"/>
                </a:lnTo>
                <a:lnTo>
                  <a:pt x="25933" y="21600"/>
                </a:lnTo>
                <a:lnTo>
                  <a:pt x="0" y="21600"/>
                </a:lnTo>
                <a:close/>
              </a:path>
              <a:path fill="lightenLess" w="25933" h="21600">
                <a:moveTo>
                  <a:pt x="0" y="0"/>
                </a:moveTo>
                <a:lnTo>
                  <a:pt x="25933" y="0"/>
                </a:lnTo>
                <a:lnTo>
                  <a:pt x="24533" y="1400"/>
                </a:lnTo>
                <a:lnTo>
                  <a:pt x="1400" y="1400"/>
                </a:lnTo>
                <a:close/>
              </a:path>
              <a:path fill="darken" w="25933" h="21600">
                <a:moveTo>
                  <a:pt x="25933" y="0"/>
                </a:moveTo>
                <a:lnTo>
                  <a:pt x="25933" y="21600"/>
                </a:lnTo>
                <a:lnTo>
                  <a:pt x="24533" y="20200"/>
                </a:lnTo>
                <a:lnTo>
                  <a:pt x="24533" y="1400"/>
                </a:lnTo>
                <a:close/>
              </a:path>
              <a:path fill="darkenLess" w="25933" h="21600">
                <a:moveTo>
                  <a:pt x="25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3" y="20200"/>
                </a:lnTo>
                <a:close/>
              </a:path>
              <a:path fill="lighten" w="25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33" h="21600">
                <a:moveTo>
                  <a:pt x="5960" y="10800"/>
                </a:moveTo>
                <a:lnTo>
                  <a:pt x="19973" y="3794"/>
                </a:lnTo>
                <a:lnTo>
                  <a:pt x="19973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hat have we don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Jolly Phonics PD d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rst steps refresh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rst Steps scope and sequen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rst Steps fold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rst Steps resourc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idence of First Steps in Progra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ntinuity across literacy from K-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>
            <a:hlinkClick r:id="rId2" action="ppaction://hlinksldjump"/>
          </p:cNvPr>
          <p:cNvSpPr/>
          <p:nvPr/>
        </p:nvSpPr>
        <p:spPr>
          <a:xfrm>
            <a:off x="7885080" y="5734080"/>
            <a:ext cx="863640" cy="71928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33" h="21600">
                <a:moveTo>
                  <a:pt x="0" y="0"/>
                </a:moveTo>
                <a:lnTo>
                  <a:pt x="25933" y="0"/>
                </a:lnTo>
                <a:lnTo>
                  <a:pt x="25933" y="21600"/>
                </a:lnTo>
                <a:lnTo>
                  <a:pt x="0" y="21600"/>
                </a:lnTo>
                <a:close/>
              </a:path>
              <a:path fill="lightenLess" w="25933" h="21600">
                <a:moveTo>
                  <a:pt x="0" y="0"/>
                </a:moveTo>
                <a:lnTo>
                  <a:pt x="25933" y="0"/>
                </a:lnTo>
                <a:lnTo>
                  <a:pt x="24533" y="1400"/>
                </a:lnTo>
                <a:lnTo>
                  <a:pt x="1400" y="1400"/>
                </a:lnTo>
                <a:close/>
              </a:path>
              <a:path fill="darken" w="25933" h="21600">
                <a:moveTo>
                  <a:pt x="25933" y="0"/>
                </a:moveTo>
                <a:lnTo>
                  <a:pt x="25933" y="21600"/>
                </a:lnTo>
                <a:lnTo>
                  <a:pt x="24533" y="20200"/>
                </a:lnTo>
                <a:lnTo>
                  <a:pt x="24533" y="1400"/>
                </a:lnTo>
                <a:close/>
              </a:path>
              <a:path fill="darkenLess" w="25933" h="21600">
                <a:moveTo>
                  <a:pt x="25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3" y="20200"/>
                </a:lnTo>
                <a:close/>
              </a:path>
              <a:path fill="lighten" w="25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33" h="21600">
                <a:moveTo>
                  <a:pt x="5960" y="10800"/>
                </a:moveTo>
                <a:lnTo>
                  <a:pt x="19973" y="3794"/>
                </a:lnTo>
                <a:lnTo>
                  <a:pt x="19973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5T23:12:48Z</dcterms:created>
  <dc:creator>Dean Colmer</dc:creator>
  <dc:description/>
  <dc:language>en-US</dc:language>
  <cp:lastModifiedBy>Dean Colmer</cp:lastModifiedBy>
  <dcterms:modified xsi:type="dcterms:W3CDTF">2010-05-20T00:34:41Z</dcterms:modified>
  <cp:revision>14</cp:revision>
  <dc:subject/>
  <dc:title>St Joseph’s Primary School Peak Hill</dc:title>
</cp:coreProperties>
</file>